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448F-15C3-4375-A70A-D64C9162A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– distance to send response data up a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off between reliability and communicatio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s and combs can have different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ensor network applications involve the dissemination of observed information to interested cli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query cost vs. event report co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-granularity is adjusted based on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general over both pure push-based and pull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le, no a prior infrastructur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odes with the desired information receives the query, it sends a reply to the query node, as shown in the red arrow. This pull-based strategy is efficient when the number of queries is relatively small. And less efficient when there are more qu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approach is pure push-based. Basically, whenever there is an event detected, the sensor node can flood the network with the information of the detected events. The push-based strategy is more efficient than the pull-based strategy when the number of events is small and that of query is large. And vice 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question is: can we combine the advantages of both push and pull strategies and build an efficient query-support mechanisms that adapts to the frequencies of the query and ev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65B-48C9-4CA9-8069-1CECF2EB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E0F-724C-4325-96F6-B193FBCC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D7D-7186-4948-8B05-837A4521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8DE-AB10-4E49-A47E-F9C9701B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ECFE-BE10-4B5B-8606-C5ACAA25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0C07-85F6-490F-BE6C-7FC9F42C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FC22-24A1-4565-896C-B8AA9313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9D5D-1D0C-4B21-ABB3-0D7A6103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44A7-E8F4-446D-BC1B-190FEADB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6398-C945-4110-8B42-1F546E1C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663B-FAF2-42DD-8E01-821319F7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6DB-01B4-44F2-8650-02343273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5B33-6F0D-45F3-B79B-2116CE6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5D36-914B-467F-BDF1-6995F26B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D8A9-417D-4702-846B-C44F08E0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C88B-5599-469D-8452-B20360D7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475C-0017-4DF8-B9C6-45F02728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D8B-580D-4919-A877-E87FB361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CF3-CAB1-4266-B4A1-26FEF6E4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87A-B8DC-4D33-B6D6-FAEA504A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B26-5CC6-4A83-9ED4-BE9731C1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DE5-A436-46F2-8874-B538F066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600-7F10-4991-8DE5-2BC2B068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1C1-D811-440A-9213-5AD5BCC5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1A45-C34F-4F1D-B49E-38A09CD3E3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E42C-867D-42F9-9216-B814B89342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331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bs, Needles, and Haystacks:</a:t>
            </a:r>
            <a:br>
              <a:rPr sz="43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ing Push and Pull for Information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in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Qingfeng Hu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ing Zh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1840" y="631332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 Chien-Liang Fok on March 4, 2004 for CSE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 Query is Generat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669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4968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"/>
          <p:cNvCxnSpPr>
            <a:stCxn id="1065" idx="6"/>
            <a:endCxn id="1066" idx="2"/>
          </p:cNvCxnSpPr>
          <p:nvPr/>
        </p:nvCxnSpPr>
        <p:spPr>
          <a:xfrm>
            <a:off x="327312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65" idx="4"/>
          </p:cNvCxnSpPr>
          <p:nvPr/>
        </p:nvCxnSpPr>
        <p:spPr>
          <a:xfrm>
            <a:off x="32205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66" idx="4"/>
          </p:cNvCxnSpPr>
          <p:nvPr/>
        </p:nvCxnSpPr>
        <p:spPr>
          <a:xfrm>
            <a:off x="370332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220356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859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"/>
          <p:cNvCxnSpPr>
            <a:stCxn id="1070" idx="6"/>
            <a:endCxn id="1071" idx="2"/>
          </p:cNvCxnSpPr>
          <p:nvPr/>
        </p:nvCxnSpPr>
        <p:spPr>
          <a:xfrm>
            <a:off x="230940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70" idx="4"/>
          </p:cNvCxnSpPr>
          <p:nvPr/>
        </p:nvCxnSpPr>
        <p:spPr>
          <a:xfrm>
            <a:off x="22572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71" idx="4"/>
          </p:cNvCxnSpPr>
          <p:nvPr/>
        </p:nvCxnSpPr>
        <p:spPr>
          <a:xfrm>
            <a:off x="27396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71" idx="6"/>
            <a:endCxn id="1065" idx="2"/>
          </p:cNvCxnSpPr>
          <p:nvPr/>
        </p:nvCxnSpPr>
        <p:spPr>
          <a:xfrm>
            <a:off x="279252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6" name=""/>
          <p:cNvSpPr/>
          <p:nvPr/>
        </p:nvSpPr>
        <p:spPr>
          <a:xfrm>
            <a:off x="5094360" y="44640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767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76" idx="6"/>
            <a:endCxn id="1077" idx="2"/>
          </p:cNvCxnSpPr>
          <p:nvPr/>
        </p:nvCxnSpPr>
        <p:spPr>
          <a:xfrm>
            <a:off x="520236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6" idx="4"/>
          </p:cNvCxnSpPr>
          <p:nvPr/>
        </p:nvCxnSpPr>
        <p:spPr>
          <a:xfrm>
            <a:off x="51480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77" idx="4"/>
          </p:cNvCxnSpPr>
          <p:nvPr/>
        </p:nvCxnSpPr>
        <p:spPr>
          <a:xfrm>
            <a:off x="56304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82" idx="4"/>
          </p:cNvCxnSpPr>
          <p:nvPr/>
        </p:nvCxnSpPr>
        <p:spPr>
          <a:xfrm>
            <a:off x="41842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84" idx="4"/>
          </p:cNvCxnSpPr>
          <p:nvPr/>
        </p:nvCxnSpPr>
        <p:spPr>
          <a:xfrm>
            <a:off x="466704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66" idx="6"/>
            <a:endCxn id="1082" idx="2"/>
          </p:cNvCxnSpPr>
          <p:nvPr/>
        </p:nvCxnSpPr>
        <p:spPr>
          <a:xfrm>
            <a:off x="37555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6" name=""/>
          <p:cNvSpPr/>
          <p:nvPr/>
        </p:nvSpPr>
        <p:spPr>
          <a:xfrm>
            <a:off x="61117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593040" y="44640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6" idx="6"/>
            <a:endCxn id="1087" idx="2"/>
          </p:cNvCxnSpPr>
          <p:nvPr/>
        </p:nvCxnSpPr>
        <p:spPr>
          <a:xfrm>
            <a:off x="62179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6" idx="4"/>
          </p:cNvCxnSpPr>
          <p:nvPr/>
        </p:nvCxnSpPr>
        <p:spPr>
          <a:xfrm>
            <a:off x="61653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7" idx="4"/>
          </p:cNvCxnSpPr>
          <p:nvPr/>
        </p:nvCxnSpPr>
        <p:spPr>
          <a:xfrm>
            <a:off x="66466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7" idx="6"/>
            <a:endCxn id="1086" idx="2"/>
          </p:cNvCxnSpPr>
          <p:nvPr/>
        </p:nvCxnSpPr>
        <p:spPr>
          <a:xfrm>
            <a:off x="5683320" y="4511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2" name=""/>
          <p:cNvSpPr/>
          <p:nvPr/>
        </p:nvSpPr>
        <p:spPr>
          <a:xfrm>
            <a:off x="31669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4968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669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4968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"/>
          <p:cNvCxnSpPr>
            <a:stCxn id="1094" idx="6"/>
            <a:endCxn id="1095" idx="2"/>
          </p:cNvCxnSpPr>
          <p:nvPr/>
        </p:nvCxnSpPr>
        <p:spPr>
          <a:xfrm>
            <a:off x="327312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94" idx="4"/>
            <a:endCxn id="1092" idx="0"/>
          </p:cNvCxnSpPr>
          <p:nvPr/>
        </p:nvCxnSpPr>
        <p:spPr>
          <a:xfrm>
            <a:off x="32205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92" idx="6"/>
            <a:endCxn id="1093" idx="2"/>
          </p:cNvCxnSpPr>
          <p:nvPr/>
        </p:nvCxnSpPr>
        <p:spPr>
          <a:xfrm>
            <a:off x="327312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9" name=""/>
          <p:cNvCxnSpPr>
            <a:stCxn id="1095" idx="4"/>
            <a:endCxn id="1093" idx="0"/>
          </p:cNvCxnSpPr>
          <p:nvPr/>
        </p:nvCxnSpPr>
        <p:spPr>
          <a:xfrm>
            <a:off x="370152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0" name=""/>
          <p:cNvSpPr/>
          <p:nvPr/>
        </p:nvSpPr>
        <p:spPr>
          <a:xfrm>
            <a:off x="220356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859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0356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859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4" name=""/>
          <p:cNvCxnSpPr>
            <a:stCxn id="1102" idx="6"/>
            <a:endCxn id="1103" idx="2"/>
          </p:cNvCxnSpPr>
          <p:nvPr/>
        </p:nvCxnSpPr>
        <p:spPr>
          <a:xfrm>
            <a:off x="230940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102" idx="4"/>
            <a:endCxn id="1100" idx="0"/>
          </p:cNvCxnSpPr>
          <p:nvPr/>
        </p:nvCxnSpPr>
        <p:spPr>
          <a:xfrm>
            <a:off x="22572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6"/>
            <a:endCxn id="1101" idx="2"/>
          </p:cNvCxnSpPr>
          <p:nvPr/>
        </p:nvCxnSpPr>
        <p:spPr>
          <a:xfrm>
            <a:off x="230940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3" idx="4"/>
            <a:endCxn id="1101" idx="0"/>
          </p:cNvCxnSpPr>
          <p:nvPr/>
        </p:nvCxnSpPr>
        <p:spPr>
          <a:xfrm>
            <a:off x="27381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103" idx="6"/>
            <a:endCxn id="1094" idx="2"/>
          </p:cNvCxnSpPr>
          <p:nvPr/>
        </p:nvCxnSpPr>
        <p:spPr>
          <a:xfrm>
            <a:off x="279252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1" idx="6"/>
            <a:endCxn id="1092" idx="2"/>
          </p:cNvCxnSpPr>
          <p:nvPr/>
        </p:nvCxnSpPr>
        <p:spPr>
          <a:xfrm>
            <a:off x="279252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5094360" y="40338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767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094360" y="36050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767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4" name=""/>
          <p:cNvCxnSpPr>
            <a:stCxn id="1112" idx="6"/>
            <a:endCxn id="1113" idx="2"/>
          </p:cNvCxnSpPr>
          <p:nvPr/>
        </p:nvCxnSpPr>
        <p:spPr>
          <a:xfrm>
            <a:off x="520236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5" name=""/>
          <p:cNvCxnSpPr>
            <a:stCxn id="1112" idx="4"/>
            <a:endCxn id="1110" idx="0"/>
          </p:cNvCxnSpPr>
          <p:nvPr/>
        </p:nvCxnSpPr>
        <p:spPr>
          <a:xfrm>
            <a:off x="51480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0" idx="6"/>
            <a:endCxn id="1111" idx="2"/>
          </p:cNvCxnSpPr>
          <p:nvPr/>
        </p:nvCxnSpPr>
        <p:spPr>
          <a:xfrm>
            <a:off x="520236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7" name=""/>
          <p:cNvCxnSpPr>
            <a:stCxn id="1113" idx="4"/>
            <a:endCxn id="1111" idx="0"/>
          </p:cNvCxnSpPr>
          <p:nvPr/>
        </p:nvCxnSpPr>
        <p:spPr>
          <a:xfrm>
            <a:off x="56289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095" idx="6"/>
            <a:endCxn id="1119" idx="2"/>
          </p:cNvCxnSpPr>
          <p:nvPr/>
        </p:nvCxnSpPr>
        <p:spPr>
          <a:xfrm>
            <a:off x="37555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3" idx="6"/>
            <a:endCxn id="1121" idx="2"/>
          </p:cNvCxnSpPr>
          <p:nvPr/>
        </p:nvCxnSpPr>
        <p:spPr>
          <a:xfrm>
            <a:off x="37555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2" name=""/>
          <p:cNvSpPr/>
          <p:nvPr/>
        </p:nvSpPr>
        <p:spPr>
          <a:xfrm>
            <a:off x="61117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93040" y="40338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117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93040" y="36050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"/>
          <p:cNvCxnSpPr>
            <a:stCxn id="1124" idx="6"/>
            <a:endCxn id="1125" idx="2"/>
          </p:cNvCxnSpPr>
          <p:nvPr/>
        </p:nvCxnSpPr>
        <p:spPr>
          <a:xfrm>
            <a:off x="62179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4" idx="4"/>
            <a:endCxn id="1122" idx="0"/>
          </p:cNvCxnSpPr>
          <p:nvPr/>
        </p:nvCxnSpPr>
        <p:spPr>
          <a:xfrm>
            <a:off x="61653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2" idx="6"/>
            <a:endCxn id="1123" idx="2"/>
          </p:cNvCxnSpPr>
          <p:nvPr/>
        </p:nvCxnSpPr>
        <p:spPr>
          <a:xfrm>
            <a:off x="62179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5" idx="4"/>
            <a:endCxn id="1123" idx="0"/>
          </p:cNvCxnSpPr>
          <p:nvPr/>
        </p:nvCxnSpPr>
        <p:spPr>
          <a:xfrm>
            <a:off x="664668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13" idx="6"/>
            <a:endCxn id="1124" idx="2"/>
          </p:cNvCxnSpPr>
          <p:nvPr/>
        </p:nvCxnSpPr>
        <p:spPr>
          <a:xfrm>
            <a:off x="5683320" y="36525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11" idx="6"/>
            <a:endCxn id="1122" idx="2"/>
          </p:cNvCxnSpPr>
          <p:nvPr/>
        </p:nvCxnSpPr>
        <p:spPr>
          <a:xfrm>
            <a:off x="5683320" y="40809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00" idx="4"/>
            <a:endCxn id="1070" idx="0"/>
          </p:cNvCxnSpPr>
          <p:nvPr/>
        </p:nvCxnSpPr>
        <p:spPr>
          <a:xfrm>
            <a:off x="22572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01" idx="4"/>
            <a:endCxn id="1071" idx="0"/>
          </p:cNvCxnSpPr>
          <p:nvPr/>
        </p:nvCxnSpPr>
        <p:spPr>
          <a:xfrm>
            <a:off x="27381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092" idx="4"/>
            <a:endCxn id="1065" idx="0"/>
          </p:cNvCxnSpPr>
          <p:nvPr/>
        </p:nvCxnSpPr>
        <p:spPr>
          <a:xfrm>
            <a:off x="32205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093" idx="4"/>
            <a:endCxn id="1066" idx="0"/>
          </p:cNvCxnSpPr>
          <p:nvPr/>
        </p:nvCxnSpPr>
        <p:spPr>
          <a:xfrm>
            <a:off x="370152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stCxn id="1110" idx="4"/>
            <a:endCxn id="1076" idx="0"/>
          </p:cNvCxnSpPr>
          <p:nvPr/>
        </p:nvCxnSpPr>
        <p:spPr>
          <a:xfrm>
            <a:off x="51480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11" idx="4"/>
            <a:endCxn id="1077" idx="0"/>
          </p:cNvCxnSpPr>
          <p:nvPr/>
        </p:nvCxnSpPr>
        <p:spPr>
          <a:xfrm>
            <a:off x="56289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2" idx="4"/>
            <a:endCxn id="1086" idx="0"/>
          </p:cNvCxnSpPr>
          <p:nvPr/>
        </p:nvCxnSpPr>
        <p:spPr>
          <a:xfrm>
            <a:off x="61653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23" idx="4"/>
            <a:endCxn id="1087" idx="0"/>
          </p:cNvCxnSpPr>
          <p:nvPr/>
        </p:nvCxnSpPr>
        <p:spPr>
          <a:xfrm>
            <a:off x="664668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31669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4968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4968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stCxn id="1142" idx="6"/>
            <a:endCxn id="1143" idx="2"/>
          </p:cNvCxnSpPr>
          <p:nvPr/>
        </p:nvCxnSpPr>
        <p:spPr>
          <a:xfrm>
            <a:off x="327312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2" idx="4"/>
            <a:endCxn id="1140" idx="0"/>
          </p:cNvCxnSpPr>
          <p:nvPr/>
        </p:nvCxnSpPr>
        <p:spPr>
          <a:xfrm>
            <a:off x="32205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0" idx="6"/>
            <a:endCxn id="1141" idx="2"/>
          </p:cNvCxnSpPr>
          <p:nvPr/>
        </p:nvCxnSpPr>
        <p:spPr>
          <a:xfrm>
            <a:off x="327312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stCxn id="1143" idx="4"/>
            <a:endCxn id="1141" idx="0"/>
          </p:cNvCxnSpPr>
          <p:nvPr/>
        </p:nvCxnSpPr>
        <p:spPr>
          <a:xfrm>
            <a:off x="370152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220356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68596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0356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59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1150" idx="6"/>
            <a:endCxn id="1151" idx="2"/>
          </p:cNvCxnSpPr>
          <p:nvPr/>
        </p:nvCxnSpPr>
        <p:spPr>
          <a:xfrm>
            <a:off x="230940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50" idx="4"/>
            <a:endCxn id="1148" idx="0"/>
          </p:cNvCxnSpPr>
          <p:nvPr/>
        </p:nvCxnSpPr>
        <p:spPr>
          <a:xfrm>
            <a:off x="22572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4" name=""/>
          <p:cNvCxnSpPr>
            <a:stCxn id="1148" idx="6"/>
            <a:endCxn id="1149" idx="2"/>
          </p:cNvCxnSpPr>
          <p:nvPr/>
        </p:nvCxnSpPr>
        <p:spPr>
          <a:xfrm>
            <a:off x="230940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51" idx="4"/>
            <a:endCxn id="1149" idx="0"/>
          </p:cNvCxnSpPr>
          <p:nvPr/>
        </p:nvCxnSpPr>
        <p:spPr>
          <a:xfrm>
            <a:off x="27381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51" idx="6"/>
            <a:endCxn id="1142" idx="2"/>
          </p:cNvCxnSpPr>
          <p:nvPr/>
        </p:nvCxnSpPr>
        <p:spPr>
          <a:xfrm>
            <a:off x="279252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7" name=""/>
          <p:cNvCxnSpPr>
            <a:stCxn id="1149" idx="6"/>
            <a:endCxn id="1140" idx="2"/>
          </p:cNvCxnSpPr>
          <p:nvPr/>
        </p:nvCxnSpPr>
        <p:spPr>
          <a:xfrm>
            <a:off x="279252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8" name=""/>
          <p:cNvSpPr/>
          <p:nvPr/>
        </p:nvSpPr>
        <p:spPr>
          <a:xfrm>
            <a:off x="509436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576760" y="3174840"/>
            <a:ext cx="10656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09436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767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60" idx="6"/>
            <a:endCxn id="1161" idx="2"/>
          </p:cNvCxnSpPr>
          <p:nvPr/>
        </p:nvCxnSpPr>
        <p:spPr>
          <a:xfrm>
            <a:off x="520236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60" idx="4"/>
            <a:endCxn id="1158" idx="0"/>
          </p:cNvCxnSpPr>
          <p:nvPr/>
        </p:nvCxnSpPr>
        <p:spPr>
          <a:xfrm>
            <a:off x="51480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58" idx="6"/>
            <a:endCxn id="1159" idx="2"/>
          </p:cNvCxnSpPr>
          <p:nvPr/>
        </p:nvCxnSpPr>
        <p:spPr>
          <a:xfrm>
            <a:off x="520236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5" name=""/>
          <p:cNvCxnSpPr>
            <a:stCxn id="1161" idx="4"/>
            <a:endCxn id="1159" idx="0"/>
          </p:cNvCxnSpPr>
          <p:nvPr/>
        </p:nvCxnSpPr>
        <p:spPr>
          <a:xfrm>
            <a:off x="56289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6" name=""/>
          <p:cNvSpPr/>
          <p:nvPr/>
        </p:nvSpPr>
        <p:spPr>
          <a:xfrm>
            <a:off x="413064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61340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13064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1340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"/>
          <p:cNvCxnSpPr>
            <a:stCxn id="1168" idx="6"/>
            <a:endCxn id="1169" idx="2"/>
          </p:cNvCxnSpPr>
          <p:nvPr/>
        </p:nvCxnSpPr>
        <p:spPr>
          <a:xfrm>
            <a:off x="423828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8" idx="4"/>
            <a:endCxn id="1166" idx="0"/>
          </p:cNvCxnSpPr>
          <p:nvPr/>
        </p:nvCxnSpPr>
        <p:spPr>
          <a:xfrm>
            <a:off x="41842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6" idx="6"/>
            <a:endCxn id="1167" idx="2"/>
          </p:cNvCxnSpPr>
          <p:nvPr/>
        </p:nvCxnSpPr>
        <p:spPr>
          <a:xfrm>
            <a:off x="423828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9" idx="4"/>
            <a:endCxn id="1167" idx="0"/>
          </p:cNvCxnSpPr>
          <p:nvPr/>
        </p:nvCxnSpPr>
        <p:spPr>
          <a:xfrm>
            <a:off x="466524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9" idx="6"/>
            <a:endCxn id="1160" idx="2"/>
          </p:cNvCxnSpPr>
          <p:nvPr/>
        </p:nvCxnSpPr>
        <p:spPr>
          <a:xfrm>
            <a:off x="471924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7" idx="6"/>
            <a:endCxn id="1158" idx="2"/>
          </p:cNvCxnSpPr>
          <p:nvPr/>
        </p:nvCxnSpPr>
        <p:spPr>
          <a:xfrm>
            <a:off x="471924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43" idx="6"/>
            <a:endCxn id="1168" idx="2"/>
          </p:cNvCxnSpPr>
          <p:nvPr/>
        </p:nvCxnSpPr>
        <p:spPr>
          <a:xfrm>
            <a:off x="37555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7" name=""/>
          <p:cNvCxnSpPr>
            <a:stCxn id="1141" idx="6"/>
            <a:endCxn id="1166" idx="2"/>
          </p:cNvCxnSpPr>
          <p:nvPr/>
        </p:nvCxnSpPr>
        <p:spPr>
          <a:xfrm>
            <a:off x="37555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8" name=""/>
          <p:cNvSpPr/>
          <p:nvPr/>
        </p:nvSpPr>
        <p:spPr>
          <a:xfrm>
            <a:off x="61117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593040" y="31748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17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93040" y="27446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"/>
          <p:cNvCxnSpPr>
            <a:stCxn id="1180" idx="6"/>
            <a:endCxn id="1181" idx="2"/>
          </p:cNvCxnSpPr>
          <p:nvPr/>
        </p:nvCxnSpPr>
        <p:spPr>
          <a:xfrm>
            <a:off x="62179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0" idx="4"/>
            <a:endCxn id="1178" idx="0"/>
          </p:cNvCxnSpPr>
          <p:nvPr/>
        </p:nvCxnSpPr>
        <p:spPr>
          <a:xfrm>
            <a:off x="61653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6"/>
            <a:endCxn id="1179" idx="2"/>
          </p:cNvCxnSpPr>
          <p:nvPr/>
        </p:nvCxnSpPr>
        <p:spPr>
          <a:xfrm>
            <a:off x="62179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4"/>
            <a:endCxn id="1179" idx="0"/>
          </p:cNvCxnSpPr>
          <p:nvPr/>
        </p:nvCxnSpPr>
        <p:spPr>
          <a:xfrm>
            <a:off x="66466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1" idx="6"/>
            <a:endCxn id="1180" idx="2"/>
          </p:cNvCxnSpPr>
          <p:nvPr/>
        </p:nvCxnSpPr>
        <p:spPr>
          <a:xfrm>
            <a:off x="5683320" y="2792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59" idx="6"/>
            <a:endCxn id="1178" idx="2"/>
          </p:cNvCxnSpPr>
          <p:nvPr/>
        </p:nvCxnSpPr>
        <p:spPr>
          <a:xfrm>
            <a:off x="5683320" y="3222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31669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4968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1669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64968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"/>
          <p:cNvCxnSpPr>
            <a:stCxn id="1190" idx="6"/>
            <a:endCxn id="1191" idx="2"/>
          </p:cNvCxnSpPr>
          <p:nvPr/>
        </p:nvCxnSpPr>
        <p:spPr>
          <a:xfrm>
            <a:off x="3273120" y="193320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193" name=""/>
          <p:cNvCxnSpPr>
            <a:stCxn id="1190" idx="4"/>
            <a:endCxn id="1188" idx="0"/>
          </p:cNvCxnSpPr>
          <p:nvPr/>
        </p:nvCxnSpPr>
        <p:spPr>
          <a:xfrm>
            <a:off x="32205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88" idx="6"/>
            <a:endCxn id="1189" idx="2"/>
          </p:cNvCxnSpPr>
          <p:nvPr/>
        </p:nvCxnSpPr>
        <p:spPr>
          <a:xfrm>
            <a:off x="327312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1" idx="4"/>
            <a:endCxn id="1189" idx="0"/>
          </p:cNvCxnSpPr>
          <p:nvPr/>
        </p:nvCxnSpPr>
        <p:spPr>
          <a:xfrm>
            <a:off x="370152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20356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6859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0356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6859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"/>
          <p:cNvCxnSpPr>
            <a:stCxn id="1198" idx="6"/>
            <a:endCxn id="1199" idx="2"/>
          </p:cNvCxnSpPr>
          <p:nvPr/>
        </p:nvCxnSpPr>
        <p:spPr>
          <a:xfrm>
            <a:off x="2309400" y="19332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8" idx="4"/>
            <a:endCxn id="1196" idx="0"/>
          </p:cNvCxnSpPr>
          <p:nvPr/>
        </p:nvCxnSpPr>
        <p:spPr>
          <a:xfrm>
            <a:off x="22572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6"/>
            <a:endCxn id="1197" idx="2"/>
          </p:cNvCxnSpPr>
          <p:nvPr/>
        </p:nvCxnSpPr>
        <p:spPr>
          <a:xfrm>
            <a:off x="230940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9" idx="4"/>
            <a:endCxn id="1197" idx="0"/>
          </p:cNvCxnSpPr>
          <p:nvPr/>
        </p:nvCxnSpPr>
        <p:spPr>
          <a:xfrm>
            <a:off x="27381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99" idx="6"/>
            <a:endCxn id="1190" idx="2"/>
          </p:cNvCxnSpPr>
          <p:nvPr/>
        </p:nvCxnSpPr>
        <p:spPr>
          <a:xfrm>
            <a:off x="279252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05" name=""/>
          <p:cNvCxnSpPr>
            <a:stCxn id="1197" idx="6"/>
            <a:endCxn id="1188" idx="2"/>
          </p:cNvCxnSpPr>
          <p:nvPr/>
        </p:nvCxnSpPr>
        <p:spPr>
          <a:xfrm>
            <a:off x="279252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509436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767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9436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767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"/>
          <p:cNvCxnSpPr>
            <a:stCxn id="1208" idx="6"/>
            <a:endCxn id="1209" idx="2"/>
          </p:cNvCxnSpPr>
          <p:nvPr/>
        </p:nvCxnSpPr>
        <p:spPr>
          <a:xfrm>
            <a:off x="520236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1" name=""/>
          <p:cNvCxnSpPr>
            <a:stCxn id="1208" idx="4"/>
            <a:endCxn id="1206" idx="0"/>
          </p:cNvCxnSpPr>
          <p:nvPr/>
        </p:nvCxnSpPr>
        <p:spPr>
          <a:xfrm>
            <a:off x="51480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6" idx="6"/>
            <a:endCxn id="1207" idx="2"/>
          </p:cNvCxnSpPr>
          <p:nvPr/>
        </p:nvCxnSpPr>
        <p:spPr>
          <a:xfrm>
            <a:off x="520236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9" idx="4"/>
            <a:endCxn id="1207" idx="0"/>
          </p:cNvCxnSpPr>
          <p:nvPr/>
        </p:nvCxnSpPr>
        <p:spPr>
          <a:xfrm>
            <a:off x="56289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413064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1340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064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1340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"/>
          <p:cNvCxnSpPr>
            <a:stCxn id="1216" idx="6"/>
            <a:endCxn id="1217" idx="2"/>
          </p:cNvCxnSpPr>
          <p:nvPr/>
        </p:nvCxnSpPr>
        <p:spPr>
          <a:xfrm>
            <a:off x="423828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9" name=""/>
          <p:cNvCxnSpPr>
            <a:stCxn id="1216" idx="4"/>
            <a:endCxn id="1214" idx="0"/>
          </p:cNvCxnSpPr>
          <p:nvPr/>
        </p:nvCxnSpPr>
        <p:spPr>
          <a:xfrm>
            <a:off x="41842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14" idx="6"/>
            <a:endCxn id="1215" idx="2"/>
          </p:cNvCxnSpPr>
          <p:nvPr/>
        </p:nvCxnSpPr>
        <p:spPr>
          <a:xfrm>
            <a:off x="423828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1" name=""/>
          <p:cNvCxnSpPr>
            <a:stCxn id="1217" idx="4"/>
            <a:endCxn id="1215" idx="0"/>
          </p:cNvCxnSpPr>
          <p:nvPr/>
        </p:nvCxnSpPr>
        <p:spPr>
          <a:xfrm>
            <a:off x="466524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2" name=""/>
          <p:cNvCxnSpPr>
            <a:stCxn id="1217" idx="6"/>
            <a:endCxn id="1208" idx="2"/>
          </p:cNvCxnSpPr>
          <p:nvPr/>
        </p:nvCxnSpPr>
        <p:spPr>
          <a:xfrm>
            <a:off x="471924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3" name=""/>
          <p:cNvCxnSpPr>
            <a:stCxn id="1215" idx="6"/>
            <a:endCxn id="1206" idx="2"/>
          </p:cNvCxnSpPr>
          <p:nvPr/>
        </p:nvCxnSpPr>
        <p:spPr>
          <a:xfrm>
            <a:off x="471924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4" name=""/>
          <p:cNvCxnSpPr>
            <a:stCxn id="1191" idx="6"/>
            <a:endCxn id="1216" idx="2"/>
          </p:cNvCxnSpPr>
          <p:nvPr/>
        </p:nvCxnSpPr>
        <p:spPr>
          <a:xfrm>
            <a:off x="375552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5" name=""/>
          <p:cNvCxnSpPr>
            <a:stCxn id="1189" idx="6"/>
            <a:endCxn id="1214" idx="2"/>
          </p:cNvCxnSpPr>
          <p:nvPr/>
        </p:nvCxnSpPr>
        <p:spPr>
          <a:xfrm>
            <a:off x="37555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6" name=""/>
          <p:cNvSpPr/>
          <p:nvPr/>
        </p:nvSpPr>
        <p:spPr>
          <a:xfrm>
            <a:off x="61117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593040" y="23162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117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593040" y="18860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"/>
          <p:cNvCxnSpPr>
            <a:stCxn id="1228" idx="6"/>
            <a:endCxn id="1229" idx="2"/>
          </p:cNvCxnSpPr>
          <p:nvPr/>
        </p:nvCxnSpPr>
        <p:spPr>
          <a:xfrm>
            <a:off x="6217920" y="19332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stCxn id="1228" idx="4"/>
            <a:endCxn id="1226" idx="0"/>
          </p:cNvCxnSpPr>
          <p:nvPr/>
        </p:nvCxnSpPr>
        <p:spPr>
          <a:xfrm>
            <a:off x="61653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"/>
          <p:cNvCxnSpPr>
            <a:stCxn id="1226" idx="6"/>
            <a:endCxn id="1227" idx="2"/>
          </p:cNvCxnSpPr>
          <p:nvPr/>
        </p:nvCxnSpPr>
        <p:spPr>
          <a:xfrm>
            <a:off x="62179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stCxn id="1229" idx="4"/>
            <a:endCxn id="1227" idx="0"/>
          </p:cNvCxnSpPr>
          <p:nvPr/>
        </p:nvCxnSpPr>
        <p:spPr>
          <a:xfrm>
            <a:off x="66466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09" idx="6"/>
            <a:endCxn id="1228" idx="2"/>
          </p:cNvCxnSpPr>
          <p:nvPr/>
        </p:nvCxnSpPr>
        <p:spPr>
          <a:xfrm>
            <a:off x="5683320" y="1933200"/>
            <a:ext cx="429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35" name=""/>
          <p:cNvCxnSpPr>
            <a:stCxn id="1207" idx="6"/>
            <a:endCxn id="1226" idx="2"/>
          </p:cNvCxnSpPr>
          <p:nvPr/>
        </p:nvCxnSpPr>
        <p:spPr>
          <a:xfrm>
            <a:off x="5683320" y="236340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196" idx="4"/>
            <a:endCxn id="1150" idx="0"/>
          </p:cNvCxnSpPr>
          <p:nvPr/>
        </p:nvCxnSpPr>
        <p:spPr>
          <a:xfrm>
            <a:off x="22572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"/>
          <p:cNvCxnSpPr>
            <a:stCxn id="1197" idx="4"/>
            <a:endCxn id="1151" idx="0"/>
          </p:cNvCxnSpPr>
          <p:nvPr/>
        </p:nvCxnSpPr>
        <p:spPr>
          <a:xfrm>
            <a:off x="27381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8" name=""/>
          <p:cNvCxnSpPr>
            <a:stCxn id="1188" idx="4"/>
            <a:endCxn id="1142" idx="0"/>
          </p:cNvCxnSpPr>
          <p:nvPr/>
        </p:nvCxnSpPr>
        <p:spPr>
          <a:xfrm>
            <a:off x="32205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189" idx="4"/>
            <a:endCxn id="1143" idx="0"/>
          </p:cNvCxnSpPr>
          <p:nvPr/>
        </p:nvCxnSpPr>
        <p:spPr>
          <a:xfrm>
            <a:off x="370152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14" idx="4"/>
            <a:endCxn id="1168" idx="0"/>
          </p:cNvCxnSpPr>
          <p:nvPr/>
        </p:nvCxnSpPr>
        <p:spPr>
          <a:xfrm>
            <a:off x="41842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15" idx="4"/>
            <a:endCxn id="1169" idx="0"/>
          </p:cNvCxnSpPr>
          <p:nvPr/>
        </p:nvCxnSpPr>
        <p:spPr>
          <a:xfrm>
            <a:off x="466524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06" idx="4"/>
            <a:endCxn id="1160" idx="0"/>
          </p:cNvCxnSpPr>
          <p:nvPr/>
        </p:nvCxnSpPr>
        <p:spPr>
          <a:xfrm>
            <a:off x="51480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3" name=""/>
          <p:cNvCxnSpPr>
            <a:stCxn id="1207" idx="4"/>
            <a:endCxn id="1161" idx="0"/>
          </p:cNvCxnSpPr>
          <p:nvPr/>
        </p:nvCxnSpPr>
        <p:spPr>
          <a:xfrm>
            <a:off x="56289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4" name=""/>
          <p:cNvCxnSpPr>
            <a:stCxn id="1226" idx="4"/>
            <a:endCxn id="1180" idx="0"/>
          </p:cNvCxnSpPr>
          <p:nvPr/>
        </p:nvCxnSpPr>
        <p:spPr>
          <a:xfrm>
            <a:off x="61653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5" name=""/>
          <p:cNvCxnSpPr>
            <a:stCxn id="1227" idx="4"/>
            <a:endCxn id="1181" idx="0"/>
          </p:cNvCxnSpPr>
          <p:nvPr/>
        </p:nvCxnSpPr>
        <p:spPr>
          <a:xfrm>
            <a:off x="66466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148" idx="4"/>
            <a:endCxn id="1102" idx="0"/>
          </p:cNvCxnSpPr>
          <p:nvPr/>
        </p:nvCxnSpPr>
        <p:spPr>
          <a:xfrm>
            <a:off x="22572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149" idx="4"/>
            <a:endCxn id="1103" idx="0"/>
          </p:cNvCxnSpPr>
          <p:nvPr/>
        </p:nvCxnSpPr>
        <p:spPr>
          <a:xfrm>
            <a:off x="27381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140" idx="4"/>
            <a:endCxn id="1094" idx="0"/>
          </p:cNvCxnSpPr>
          <p:nvPr/>
        </p:nvCxnSpPr>
        <p:spPr>
          <a:xfrm>
            <a:off x="32205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141" idx="4"/>
            <a:endCxn id="1095" idx="0"/>
          </p:cNvCxnSpPr>
          <p:nvPr/>
        </p:nvCxnSpPr>
        <p:spPr>
          <a:xfrm>
            <a:off x="370152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166" idx="4"/>
            <a:endCxn id="1119" idx="0"/>
          </p:cNvCxnSpPr>
          <p:nvPr/>
        </p:nvCxnSpPr>
        <p:spPr>
          <a:xfrm>
            <a:off x="41842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167" idx="4"/>
            <a:endCxn id="1252" idx="0"/>
          </p:cNvCxnSpPr>
          <p:nvPr/>
        </p:nvCxnSpPr>
        <p:spPr>
          <a:xfrm>
            <a:off x="466704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158" idx="4"/>
            <a:endCxn id="1112" idx="0"/>
          </p:cNvCxnSpPr>
          <p:nvPr/>
        </p:nvCxnSpPr>
        <p:spPr>
          <a:xfrm>
            <a:off x="51480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159" idx="4"/>
            <a:endCxn id="1113" idx="0"/>
          </p:cNvCxnSpPr>
          <p:nvPr/>
        </p:nvCxnSpPr>
        <p:spPr>
          <a:xfrm>
            <a:off x="56289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178" idx="4"/>
            <a:endCxn id="1124" idx="0"/>
          </p:cNvCxnSpPr>
          <p:nvPr/>
        </p:nvCxnSpPr>
        <p:spPr>
          <a:xfrm>
            <a:off x="61653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179" idx="4"/>
            <a:endCxn id="1125" idx="0"/>
          </p:cNvCxnSpPr>
          <p:nvPr/>
        </p:nvCxnSpPr>
        <p:spPr>
          <a:xfrm>
            <a:off x="66466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317016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6529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"/>
          <p:cNvCxnSpPr>
            <a:stCxn id="1257" idx="6"/>
            <a:endCxn id="1258" idx="2"/>
          </p:cNvCxnSpPr>
          <p:nvPr/>
        </p:nvCxnSpPr>
        <p:spPr>
          <a:xfrm>
            <a:off x="327780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2206800" y="5753160"/>
            <a:ext cx="107640" cy="95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892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2" name=""/>
          <p:cNvCxnSpPr>
            <a:stCxn id="1260" idx="6"/>
            <a:endCxn id="1261" idx="2"/>
          </p:cNvCxnSpPr>
          <p:nvPr/>
        </p:nvCxnSpPr>
        <p:spPr>
          <a:xfrm>
            <a:off x="23140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61" idx="6"/>
            <a:endCxn id="1257" idx="2"/>
          </p:cNvCxnSpPr>
          <p:nvPr/>
        </p:nvCxnSpPr>
        <p:spPr>
          <a:xfrm>
            <a:off x="279576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4" name=""/>
          <p:cNvSpPr/>
          <p:nvPr/>
        </p:nvSpPr>
        <p:spPr>
          <a:xfrm>
            <a:off x="5097600" y="57531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800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6" name=""/>
          <p:cNvCxnSpPr>
            <a:stCxn id="1264" idx="6"/>
            <a:endCxn id="1265" idx="2"/>
          </p:cNvCxnSpPr>
          <p:nvPr/>
        </p:nvCxnSpPr>
        <p:spPr>
          <a:xfrm>
            <a:off x="52048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7" name=""/>
          <p:cNvSpPr/>
          <p:nvPr/>
        </p:nvSpPr>
        <p:spPr>
          <a:xfrm>
            <a:off x="413388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1628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9" name=""/>
          <p:cNvCxnSpPr>
            <a:stCxn id="1267" idx="6"/>
            <a:endCxn id="1268" idx="2"/>
          </p:cNvCxnSpPr>
          <p:nvPr/>
        </p:nvCxnSpPr>
        <p:spPr>
          <a:xfrm>
            <a:off x="424188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0" name=""/>
          <p:cNvCxnSpPr>
            <a:stCxn id="1268" idx="6"/>
            <a:endCxn id="1264" idx="2"/>
          </p:cNvCxnSpPr>
          <p:nvPr/>
        </p:nvCxnSpPr>
        <p:spPr>
          <a:xfrm>
            <a:off x="47224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58" idx="6"/>
            <a:endCxn id="1267" idx="2"/>
          </p:cNvCxnSpPr>
          <p:nvPr/>
        </p:nvCxnSpPr>
        <p:spPr>
          <a:xfrm>
            <a:off x="375876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2" name=""/>
          <p:cNvSpPr/>
          <p:nvPr/>
        </p:nvSpPr>
        <p:spPr>
          <a:xfrm>
            <a:off x="611496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977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4" name=""/>
          <p:cNvCxnSpPr>
            <a:stCxn id="1272" idx="6"/>
            <a:endCxn id="1273" idx="2"/>
          </p:cNvCxnSpPr>
          <p:nvPr/>
        </p:nvCxnSpPr>
        <p:spPr>
          <a:xfrm>
            <a:off x="6221160" y="58003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5" name=""/>
          <p:cNvCxnSpPr>
            <a:stCxn id="1265" idx="6"/>
            <a:endCxn id="1272" idx="2"/>
          </p:cNvCxnSpPr>
          <p:nvPr/>
        </p:nvCxnSpPr>
        <p:spPr>
          <a:xfrm>
            <a:off x="5686560" y="58003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317016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29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17016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6529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0" name=""/>
          <p:cNvCxnSpPr>
            <a:stCxn id="1278" idx="6"/>
            <a:endCxn id="1279" idx="2"/>
          </p:cNvCxnSpPr>
          <p:nvPr/>
        </p:nvCxnSpPr>
        <p:spPr>
          <a:xfrm>
            <a:off x="327780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  <a:endCxn id="1276" idx="0"/>
          </p:cNvCxnSpPr>
          <p:nvPr/>
        </p:nvCxnSpPr>
        <p:spPr>
          <a:xfrm>
            <a:off x="32238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6" idx="6"/>
            <a:endCxn id="1277" idx="2"/>
          </p:cNvCxnSpPr>
          <p:nvPr/>
        </p:nvCxnSpPr>
        <p:spPr>
          <a:xfrm>
            <a:off x="327780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stCxn id="1279" idx="4"/>
            <a:endCxn id="1277" idx="0"/>
          </p:cNvCxnSpPr>
          <p:nvPr/>
        </p:nvCxnSpPr>
        <p:spPr>
          <a:xfrm>
            <a:off x="37047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22068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6892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068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892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"/>
          <p:cNvCxnSpPr>
            <a:stCxn id="1286" idx="6"/>
            <a:endCxn id="1287" idx="2"/>
          </p:cNvCxnSpPr>
          <p:nvPr/>
        </p:nvCxnSpPr>
        <p:spPr>
          <a:xfrm>
            <a:off x="23140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6" idx="4"/>
            <a:endCxn id="1284" idx="0"/>
          </p:cNvCxnSpPr>
          <p:nvPr/>
        </p:nvCxnSpPr>
        <p:spPr>
          <a:xfrm>
            <a:off x="22600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"/>
          <p:cNvCxnSpPr>
            <a:stCxn id="1284" idx="6"/>
            <a:endCxn id="1285" idx="2"/>
          </p:cNvCxnSpPr>
          <p:nvPr/>
        </p:nvCxnSpPr>
        <p:spPr>
          <a:xfrm>
            <a:off x="23140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1" name=""/>
          <p:cNvCxnSpPr>
            <a:stCxn id="1287" idx="4"/>
            <a:endCxn id="1285" idx="0"/>
          </p:cNvCxnSpPr>
          <p:nvPr/>
        </p:nvCxnSpPr>
        <p:spPr>
          <a:xfrm>
            <a:off x="27414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2" name=""/>
          <p:cNvCxnSpPr>
            <a:stCxn id="1287" idx="6"/>
            <a:endCxn id="1278" idx="2"/>
          </p:cNvCxnSpPr>
          <p:nvPr/>
        </p:nvCxnSpPr>
        <p:spPr>
          <a:xfrm>
            <a:off x="279576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5" idx="6"/>
            <a:endCxn id="1276" idx="2"/>
          </p:cNvCxnSpPr>
          <p:nvPr/>
        </p:nvCxnSpPr>
        <p:spPr>
          <a:xfrm>
            <a:off x="279576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"/>
          <p:cNvSpPr/>
          <p:nvPr/>
        </p:nvSpPr>
        <p:spPr>
          <a:xfrm>
            <a:off x="50976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5800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976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800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"/>
          <p:cNvCxnSpPr>
            <a:stCxn id="1296" idx="6"/>
            <a:endCxn id="1297" idx="2"/>
          </p:cNvCxnSpPr>
          <p:nvPr/>
        </p:nvCxnSpPr>
        <p:spPr>
          <a:xfrm>
            <a:off x="52048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6" idx="4"/>
            <a:endCxn id="1294" idx="0"/>
          </p:cNvCxnSpPr>
          <p:nvPr/>
        </p:nvCxnSpPr>
        <p:spPr>
          <a:xfrm>
            <a:off x="51512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"/>
          <p:cNvCxnSpPr>
            <a:stCxn id="1294" idx="6"/>
            <a:endCxn id="1295" idx="2"/>
          </p:cNvCxnSpPr>
          <p:nvPr/>
        </p:nvCxnSpPr>
        <p:spPr>
          <a:xfrm>
            <a:off x="52048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"/>
          <p:cNvCxnSpPr>
            <a:stCxn id="1297" idx="4"/>
            <a:endCxn id="1295" idx="0"/>
          </p:cNvCxnSpPr>
          <p:nvPr/>
        </p:nvCxnSpPr>
        <p:spPr>
          <a:xfrm>
            <a:off x="56336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2" name=""/>
          <p:cNvSpPr/>
          <p:nvPr/>
        </p:nvSpPr>
        <p:spPr>
          <a:xfrm>
            <a:off x="413388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61628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3388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1628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"/>
          <p:cNvCxnSpPr>
            <a:stCxn id="1304" idx="6"/>
            <a:endCxn id="1305" idx="2"/>
          </p:cNvCxnSpPr>
          <p:nvPr/>
        </p:nvCxnSpPr>
        <p:spPr>
          <a:xfrm>
            <a:off x="424188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304" idx="4"/>
            <a:endCxn id="1302" idx="0"/>
          </p:cNvCxnSpPr>
          <p:nvPr/>
        </p:nvCxnSpPr>
        <p:spPr>
          <a:xfrm>
            <a:off x="418752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8" name=""/>
          <p:cNvCxnSpPr>
            <a:stCxn id="1302" idx="6"/>
            <a:endCxn id="1303" idx="2"/>
          </p:cNvCxnSpPr>
          <p:nvPr/>
        </p:nvCxnSpPr>
        <p:spPr>
          <a:xfrm>
            <a:off x="424188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5" idx="4"/>
            <a:endCxn id="1303" idx="0"/>
          </p:cNvCxnSpPr>
          <p:nvPr/>
        </p:nvCxnSpPr>
        <p:spPr>
          <a:xfrm>
            <a:off x="46684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0" name=""/>
          <p:cNvCxnSpPr>
            <a:stCxn id="1305" idx="6"/>
            <a:endCxn id="1296" idx="2"/>
          </p:cNvCxnSpPr>
          <p:nvPr/>
        </p:nvCxnSpPr>
        <p:spPr>
          <a:xfrm>
            <a:off x="47224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3" idx="6"/>
            <a:endCxn id="1294" idx="2"/>
          </p:cNvCxnSpPr>
          <p:nvPr/>
        </p:nvCxnSpPr>
        <p:spPr>
          <a:xfrm>
            <a:off x="47224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279" idx="6"/>
            <a:endCxn id="1304" idx="2"/>
          </p:cNvCxnSpPr>
          <p:nvPr/>
        </p:nvCxnSpPr>
        <p:spPr>
          <a:xfrm>
            <a:off x="375876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3" name=""/>
          <p:cNvCxnSpPr>
            <a:stCxn id="1277" idx="6"/>
            <a:endCxn id="1302" idx="2"/>
          </p:cNvCxnSpPr>
          <p:nvPr/>
        </p:nvCxnSpPr>
        <p:spPr>
          <a:xfrm>
            <a:off x="375876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611496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5977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1496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977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"/>
          <p:cNvCxnSpPr>
            <a:stCxn id="1316" idx="6"/>
            <a:endCxn id="1317" idx="2"/>
          </p:cNvCxnSpPr>
          <p:nvPr/>
        </p:nvCxnSpPr>
        <p:spPr>
          <a:xfrm>
            <a:off x="6221160" y="4941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9" name=""/>
          <p:cNvCxnSpPr>
            <a:stCxn id="1316" idx="4"/>
            <a:endCxn id="1314" idx="0"/>
          </p:cNvCxnSpPr>
          <p:nvPr/>
        </p:nvCxnSpPr>
        <p:spPr>
          <a:xfrm>
            <a:off x="61686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0" name=""/>
          <p:cNvCxnSpPr>
            <a:stCxn id="1314" idx="6"/>
            <a:endCxn id="1315" idx="2"/>
          </p:cNvCxnSpPr>
          <p:nvPr/>
        </p:nvCxnSpPr>
        <p:spPr>
          <a:xfrm>
            <a:off x="6221160" y="5370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1" name=""/>
          <p:cNvCxnSpPr>
            <a:stCxn id="1317" idx="4"/>
            <a:endCxn id="1315" idx="0"/>
          </p:cNvCxnSpPr>
          <p:nvPr/>
        </p:nvCxnSpPr>
        <p:spPr>
          <a:xfrm>
            <a:off x="66495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2" name=""/>
          <p:cNvCxnSpPr>
            <a:stCxn id="1297" idx="6"/>
            <a:endCxn id="1316" idx="2"/>
          </p:cNvCxnSpPr>
          <p:nvPr/>
        </p:nvCxnSpPr>
        <p:spPr>
          <a:xfrm>
            <a:off x="5686560" y="4941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3" name=""/>
          <p:cNvCxnSpPr>
            <a:stCxn id="1295" idx="6"/>
            <a:endCxn id="1314" idx="2"/>
          </p:cNvCxnSpPr>
          <p:nvPr/>
        </p:nvCxnSpPr>
        <p:spPr>
          <a:xfrm>
            <a:off x="5686560" y="53701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4" name=""/>
          <p:cNvCxnSpPr>
            <a:stCxn id="1284" idx="4"/>
            <a:endCxn id="1260" idx="0"/>
          </p:cNvCxnSpPr>
          <p:nvPr/>
        </p:nvCxnSpPr>
        <p:spPr>
          <a:xfrm>
            <a:off x="22600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"/>
          <p:cNvCxnSpPr>
            <a:stCxn id="1285" idx="4"/>
            <a:endCxn id="1261" idx="0"/>
          </p:cNvCxnSpPr>
          <p:nvPr/>
        </p:nvCxnSpPr>
        <p:spPr>
          <a:xfrm>
            <a:off x="27414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"/>
          <p:cNvCxnSpPr>
            <a:stCxn id="1276" idx="4"/>
            <a:endCxn id="1257" idx="0"/>
          </p:cNvCxnSpPr>
          <p:nvPr/>
        </p:nvCxnSpPr>
        <p:spPr>
          <a:xfrm>
            <a:off x="32238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277" idx="4"/>
            <a:endCxn id="1258" idx="0"/>
          </p:cNvCxnSpPr>
          <p:nvPr/>
        </p:nvCxnSpPr>
        <p:spPr>
          <a:xfrm>
            <a:off x="37047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8" name=""/>
          <p:cNvCxnSpPr>
            <a:stCxn id="1302" idx="4"/>
            <a:endCxn id="1267" idx="0"/>
          </p:cNvCxnSpPr>
          <p:nvPr/>
        </p:nvCxnSpPr>
        <p:spPr>
          <a:xfrm>
            <a:off x="418752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9" name=""/>
          <p:cNvCxnSpPr>
            <a:stCxn id="1303" idx="4"/>
            <a:endCxn id="1268" idx="0"/>
          </p:cNvCxnSpPr>
          <p:nvPr/>
        </p:nvCxnSpPr>
        <p:spPr>
          <a:xfrm>
            <a:off x="46684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294" idx="4"/>
            <a:endCxn id="1264" idx="0"/>
          </p:cNvCxnSpPr>
          <p:nvPr/>
        </p:nvCxnSpPr>
        <p:spPr>
          <a:xfrm>
            <a:off x="51512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1" name=""/>
          <p:cNvCxnSpPr>
            <a:stCxn id="1295" idx="4"/>
            <a:endCxn id="1265" idx="0"/>
          </p:cNvCxnSpPr>
          <p:nvPr/>
        </p:nvCxnSpPr>
        <p:spPr>
          <a:xfrm>
            <a:off x="56336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2" name=""/>
          <p:cNvCxnSpPr>
            <a:stCxn id="1314" idx="4"/>
            <a:endCxn id="1272" idx="0"/>
          </p:cNvCxnSpPr>
          <p:nvPr/>
        </p:nvCxnSpPr>
        <p:spPr>
          <a:xfrm>
            <a:off x="61686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3" name=""/>
          <p:cNvCxnSpPr>
            <a:stCxn id="1315" idx="4"/>
            <a:endCxn id="1273" idx="0"/>
          </p:cNvCxnSpPr>
          <p:nvPr/>
        </p:nvCxnSpPr>
        <p:spPr>
          <a:xfrm>
            <a:off x="66495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4" name=""/>
          <p:cNvSpPr/>
          <p:nvPr/>
        </p:nvSpPr>
        <p:spPr>
          <a:xfrm>
            <a:off x="33814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6244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44840" y="575316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2760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3085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9132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262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89872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177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3814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6244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085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9132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3262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89872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4177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14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6244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344840" y="31748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82760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085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9132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262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89872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177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814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86244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44840" y="18860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2760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3085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3262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9872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4177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309760" y="42256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309760" y="37954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309760" y="3365640"/>
            <a:ext cx="0" cy="142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2309760" y="29365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309760" y="25063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2309760" y="20286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309760" y="5513040"/>
            <a:ext cx="0" cy="144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309760" y="50842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309760" y="46540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130640" y="3365640"/>
            <a:ext cx="963720" cy="1431720"/>
            <a:chOff x="4130640" y="3365640"/>
            <a:chExt cx="963720" cy="1431720"/>
          </a:xfrm>
        </p:grpSpPr>
        <p:sp>
          <p:nvSpPr>
            <p:cNvPr id="1082" name=""/>
            <p:cNvSpPr/>
            <p:nvPr/>
          </p:nvSpPr>
          <p:spPr>
            <a:xfrm>
              <a:off x="4130640" y="446400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13400" y="4464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8" name=""/>
            <p:cNvCxnSpPr>
              <a:stCxn id="1082" idx="6"/>
              <a:endCxn id="1084" idx="2"/>
            </p:cNvCxnSpPr>
            <p:nvPr/>
          </p:nvCxnSpPr>
          <p:spPr>
            <a:xfrm>
              <a:off x="423828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9" name=""/>
            <p:cNvCxnSpPr>
              <a:stCxn id="1084" idx="6"/>
              <a:endCxn id="1076" idx="2"/>
            </p:cNvCxnSpPr>
            <p:nvPr/>
          </p:nvCxnSpPr>
          <p:spPr>
            <a:xfrm>
              <a:off x="471924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1" name=""/>
            <p:cNvSpPr/>
            <p:nvPr/>
          </p:nvSpPr>
          <p:spPr>
            <a:xfrm>
              <a:off x="4130640" y="4033800"/>
              <a:ext cx="10800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3400" y="40338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30640" y="360504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13400" y="360504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119" idx="6"/>
              <a:endCxn id="1252" idx="2"/>
            </p:cNvCxnSpPr>
            <p:nvPr/>
          </p:nvCxnSpPr>
          <p:spPr>
            <a:xfrm>
              <a:off x="423828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2" name=""/>
            <p:cNvCxnSpPr>
              <a:stCxn id="1119" idx="4"/>
              <a:endCxn id="1121" idx="0"/>
            </p:cNvCxnSpPr>
            <p:nvPr/>
          </p:nvCxnSpPr>
          <p:spPr>
            <a:xfrm>
              <a:off x="418428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3" name=""/>
            <p:cNvCxnSpPr>
              <a:stCxn id="1121" idx="6"/>
              <a:endCxn id="1380" idx="2"/>
            </p:cNvCxnSpPr>
            <p:nvPr/>
          </p:nvCxnSpPr>
          <p:spPr>
            <a:xfrm>
              <a:off x="423828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4" name=""/>
            <p:cNvCxnSpPr>
              <a:stCxn id="1252" idx="4"/>
              <a:endCxn id="1380" idx="0"/>
            </p:cNvCxnSpPr>
            <p:nvPr/>
          </p:nvCxnSpPr>
          <p:spPr>
            <a:xfrm>
              <a:off x="466524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5" name=""/>
            <p:cNvCxnSpPr>
              <a:stCxn id="1252" idx="6"/>
              <a:endCxn id="1112" idx="2"/>
            </p:cNvCxnSpPr>
            <p:nvPr/>
          </p:nvCxnSpPr>
          <p:spPr>
            <a:xfrm>
              <a:off x="471924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6" name=""/>
            <p:cNvCxnSpPr>
              <a:stCxn id="1380" idx="6"/>
              <a:endCxn id="1110" idx="2"/>
            </p:cNvCxnSpPr>
            <p:nvPr/>
          </p:nvCxnSpPr>
          <p:spPr>
            <a:xfrm>
              <a:off x="471924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7" name=""/>
            <p:cNvCxnSpPr>
              <a:stCxn id="1121" idx="4"/>
              <a:endCxn id="1082" idx="0"/>
            </p:cNvCxnSpPr>
            <p:nvPr/>
          </p:nvCxnSpPr>
          <p:spPr>
            <a:xfrm>
              <a:off x="418428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8" name=""/>
            <p:cNvCxnSpPr>
              <a:stCxn id="1380" idx="4"/>
              <a:endCxn id="1084" idx="0"/>
            </p:cNvCxnSpPr>
            <p:nvPr/>
          </p:nvCxnSpPr>
          <p:spPr>
            <a:xfrm>
              <a:off x="466524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9" name=""/>
            <p:cNvSpPr/>
            <p:nvPr/>
          </p:nvSpPr>
          <p:spPr>
            <a:xfrm flipV="1">
              <a:off x="4238640" y="379548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4238640" y="3365640"/>
              <a:ext cx="0" cy="14256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8640" y="42260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8640" y="4654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44840" y="4464000"/>
              <a:ext cx="1605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27600" y="4464000"/>
              <a:ext cx="1602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26760" y="37386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469520" y="57024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668200" y="2487240"/>
            <a:ext cx="831600" cy="1432440"/>
            <a:chOff x="5668200" y="2487240"/>
            <a:chExt cx="831600" cy="1432440"/>
          </a:xfrm>
        </p:grpSpPr>
        <p:sp>
          <p:nvSpPr>
            <p:cNvPr id="1398" name=""/>
            <p:cNvSpPr/>
            <p:nvPr/>
          </p:nvSpPr>
          <p:spPr>
            <a:xfrm flipV="1">
              <a:off x="5680440" y="2917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680440" y="24872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80440" y="334800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0440" y="377676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668200" y="28479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E93-4977-4619-82A9-7DAE052B2D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ning Comb-Nee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1071720" y="1730520"/>
            <a:ext cx="4425840" cy="457344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2549520" y="5345280"/>
            <a:ext cx="5148360" cy="115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DE3-3254-44E0-8094-7A98420057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2521080" y="1690560"/>
            <a:ext cx="4843440" cy="476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A4A-6712-4805-A13E-F68AD20D3A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2627280" y="1801800"/>
            <a:ext cx="431316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750-0A16-40B9-8A14-B4587D39E7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everse Com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944720" y="1706400"/>
            <a:ext cx="4500000" cy="3962160"/>
            <a:chOff x="1944720" y="1706400"/>
            <a:chExt cx="4500000" cy="3962160"/>
          </a:xfrm>
        </p:grpSpPr>
        <p:sp>
          <p:nvSpPr>
            <p:cNvPr id="1412" name=""/>
            <p:cNvSpPr/>
            <p:nvPr/>
          </p:nvSpPr>
          <p:spPr>
            <a:xfrm>
              <a:off x="29080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39048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4" name=""/>
            <p:cNvCxnSpPr>
              <a:stCxn id="1412" idx="6"/>
              <a:endCxn id="1413" idx="2"/>
            </p:cNvCxnSpPr>
            <p:nvPr/>
          </p:nvCxnSpPr>
          <p:spPr>
            <a:xfrm>
              <a:off x="301428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5" name=""/>
            <p:cNvCxnSpPr>
              <a:stCxn id="1412" idx="4"/>
            </p:cNvCxnSpPr>
            <p:nvPr/>
          </p:nvCxnSpPr>
          <p:spPr>
            <a:xfrm>
              <a:off x="29617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6" name=""/>
            <p:cNvCxnSpPr>
              <a:stCxn id="1413" idx="4"/>
            </p:cNvCxnSpPr>
            <p:nvPr/>
          </p:nvCxnSpPr>
          <p:spPr>
            <a:xfrm>
              <a:off x="34441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7" name=""/>
            <p:cNvSpPr/>
            <p:nvPr/>
          </p:nvSpPr>
          <p:spPr>
            <a:xfrm>
              <a:off x="194472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271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9" name=""/>
            <p:cNvCxnSpPr>
              <a:stCxn id="1417" idx="6"/>
              <a:endCxn id="1418" idx="2"/>
            </p:cNvCxnSpPr>
            <p:nvPr/>
          </p:nvCxnSpPr>
          <p:spPr>
            <a:xfrm>
              <a:off x="205092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0" name=""/>
            <p:cNvCxnSpPr>
              <a:stCxn id="1418" idx="4"/>
            </p:cNvCxnSpPr>
            <p:nvPr/>
          </p:nvCxnSpPr>
          <p:spPr>
            <a:xfrm>
              <a:off x="24807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1" name=""/>
            <p:cNvCxnSpPr>
              <a:stCxn id="1418" idx="6"/>
              <a:endCxn id="1412" idx="2"/>
            </p:cNvCxnSpPr>
            <p:nvPr/>
          </p:nvCxnSpPr>
          <p:spPr>
            <a:xfrm>
              <a:off x="253332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2" name=""/>
            <p:cNvSpPr/>
            <p:nvPr/>
          </p:nvSpPr>
          <p:spPr>
            <a:xfrm>
              <a:off x="483516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179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4" name=""/>
            <p:cNvCxnSpPr>
              <a:stCxn id="1422" idx="6"/>
              <a:endCxn id="1423" idx="2"/>
            </p:cNvCxnSpPr>
            <p:nvPr/>
          </p:nvCxnSpPr>
          <p:spPr>
            <a:xfrm>
              <a:off x="494316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5" name=""/>
            <p:cNvCxnSpPr>
              <a:stCxn id="1422" idx="4"/>
            </p:cNvCxnSpPr>
            <p:nvPr/>
          </p:nvCxnSpPr>
          <p:spPr>
            <a:xfrm>
              <a:off x="48888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6" name=""/>
            <p:cNvCxnSpPr>
              <a:stCxn id="1423" idx="4"/>
            </p:cNvCxnSpPr>
            <p:nvPr/>
          </p:nvCxnSpPr>
          <p:spPr>
            <a:xfrm>
              <a:off x="53715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7" name=""/>
            <p:cNvSpPr/>
            <p:nvPr/>
          </p:nvSpPr>
          <p:spPr>
            <a:xfrm>
              <a:off x="3871800" y="428436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420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9" name=""/>
            <p:cNvCxnSpPr>
              <a:stCxn id="1427" idx="6"/>
              <a:endCxn id="1428" idx="2"/>
            </p:cNvCxnSpPr>
            <p:nvPr/>
          </p:nvCxnSpPr>
          <p:spPr>
            <a:xfrm>
              <a:off x="39794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0" name=""/>
            <p:cNvCxnSpPr>
              <a:stCxn id="1427" idx="4"/>
            </p:cNvCxnSpPr>
            <p:nvPr/>
          </p:nvCxnSpPr>
          <p:spPr>
            <a:xfrm>
              <a:off x="39250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1" name=""/>
            <p:cNvCxnSpPr>
              <a:stCxn id="1428" idx="4"/>
            </p:cNvCxnSpPr>
            <p:nvPr/>
          </p:nvCxnSpPr>
          <p:spPr>
            <a:xfrm>
              <a:off x="440784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2" name=""/>
            <p:cNvCxnSpPr>
              <a:stCxn id="1428" idx="6"/>
              <a:endCxn id="1422" idx="2"/>
            </p:cNvCxnSpPr>
            <p:nvPr/>
          </p:nvCxnSpPr>
          <p:spPr>
            <a:xfrm>
              <a:off x="4460400" y="4331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3" name=""/>
            <p:cNvCxnSpPr>
              <a:stCxn id="1413" idx="6"/>
              <a:endCxn id="1427" idx="2"/>
            </p:cNvCxnSpPr>
            <p:nvPr/>
          </p:nvCxnSpPr>
          <p:spPr>
            <a:xfrm>
              <a:off x="34970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4" name=""/>
            <p:cNvSpPr/>
            <p:nvPr/>
          </p:nvSpPr>
          <p:spPr>
            <a:xfrm>
              <a:off x="58528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384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6" name=""/>
            <p:cNvCxnSpPr>
              <a:stCxn id="1434" idx="6"/>
              <a:endCxn id="1435" idx="2"/>
            </p:cNvCxnSpPr>
            <p:nvPr/>
          </p:nvCxnSpPr>
          <p:spPr>
            <a:xfrm>
              <a:off x="595908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7" name=""/>
            <p:cNvCxnSpPr>
              <a:stCxn id="1434" idx="4"/>
            </p:cNvCxnSpPr>
            <p:nvPr/>
          </p:nvCxnSpPr>
          <p:spPr>
            <a:xfrm>
              <a:off x="59065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8" name=""/>
            <p:cNvCxnSpPr>
              <a:stCxn id="1435" idx="4"/>
            </p:cNvCxnSpPr>
            <p:nvPr/>
          </p:nvCxnSpPr>
          <p:spPr>
            <a:xfrm>
              <a:off x="63874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9" name=""/>
            <p:cNvCxnSpPr>
              <a:stCxn id="1423" idx="6"/>
              <a:endCxn id="1434" idx="2"/>
            </p:cNvCxnSpPr>
            <p:nvPr/>
          </p:nvCxnSpPr>
          <p:spPr>
            <a:xfrm>
              <a:off x="5424120" y="4331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0" name=""/>
            <p:cNvSpPr/>
            <p:nvPr/>
          </p:nvSpPr>
          <p:spPr>
            <a:xfrm>
              <a:off x="29080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9048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080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39048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4" name=""/>
            <p:cNvCxnSpPr>
              <a:stCxn id="1442" idx="6"/>
              <a:endCxn id="1443" idx="2"/>
            </p:cNvCxnSpPr>
            <p:nvPr/>
          </p:nvCxnSpPr>
          <p:spPr>
            <a:xfrm>
              <a:off x="301428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5" name=""/>
            <p:cNvCxnSpPr>
              <a:stCxn id="1442" idx="4"/>
              <a:endCxn id="1440" idx="0"/>
            </p:cNvCxnSpPr>
            <p:nvPr/>
          </p:nvCxnSpPr>
          <p:spPr>
            <a:xfrm>
              <a:off x="29617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"/>
            <p:cNvCxnSpPr>
              <a:stCxn id="1440" idx="6"/>
              <a:endCxn id="1441" idx="2"/>
            </p:cNvCxnSpPr>
            <p:nvPr/>
          </p:nvCxnSpPr>
          <p:spPr>
            <a:xfrm>
              <a:off x="301428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"/>
            <p:cNvCxnSpPr>
              <a:stCxn id="1443" idx="4"/>
              <a:endCxn id="1441" idx="0"/>
            </p:cNvCxnSpPr>
            <p:nvPr/>
          </p:nvCxnSpPr>
          <p:spPr>
            <a:xfrm>
              <a:off x="34426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"/>
            <p:cNvSpPr/>
            <p:nvPr/>
          </p:nvSpPr>
          <p:spPr>
            <a:xfrm>
              <a:off x="194472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271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472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271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2" name=""/>
            <p:cNvCxnSpPr>
              <a:stCxn id="1450" idx="6"/>
              <a:endCxn id="1451" idx="2"/>
            </p:cNvCxnSpPr>
            <p:nvPr/>
          </p:nvCxnSpPr>
          <p:spPr>
            <a:xfrm>
              <a:off x="205092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3" name=""/>
            <p:cNvCxnSpPr>
              <a:stCxn id="1448" idx="6"/>
              <a:endCxn id="1449" idx="2"/>
            </p:cNvCxnSpPr>
            <p:nvPr/>
          </p:nvCxnSpPr>
          <p:spPr>
            <a:xfrm>
              <a:off x="205092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4" name=""/>
            <p:cNvCxnSpPr>
              <a:stCxn id="1451" idx="4"/>
              <a:endCxn id="1449" idx="0"/>
            </p:cNvCxnSpPr>
            <p:nvPr/>
          </p:nvCxnSpPr>
          <p:spPr>
            <a:xfrm>
              <a:off x="24789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5" name=""/>
            <p:cNvCxnSpPr>
              <a:stCxn id="1451" idx="6"/>
              <a:endCxn id="1442" idx="2"/>
            </p:cNvCxnSpPr>
            <p:nvPr/>
          </p:nvCxnSpPr>
          <p:spPr>
            <a:xfrm>
              <a:off x="253332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6" name=""/>
            <p:cNvCxnSpPr>
              <a:stCxn id="1449" idx="6"/>
              <a:endCxn id="1440" idx="2"/>
            </p:cNvCxnSpPr>
            <p:nvPr/>
          </p:nvCxnSpPr>
          <p:spPr>
            <a:xfrm>
              <a:off x="253332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/>
            <p:nvPr/>
          </p:nvSpPr>
          <p:spPr>
            <a:xfrm>
              <a:off x="483516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179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3516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179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1" name=""/>
            <p:cNvCxnSpPr>
              <a:stCxn id="1459" idx="6"/>
              <a:endCxn id="1460" idx="2"/>
            </p:cNvCxnSpPr>
            <p:nvPr/>
          </p:nvCxnSpPr>
          <p:spPr>
            <a:xfrm>
              <a:off x="494316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2" name=""/>
            <p:cNvCxnSpPr>
              <a:stCxn id="1459" idx="4"/>
              <a:endCxn id="1457" idx="0"/>
            </p:cNvCxnSpPr>
            <p:nvPr/>
          </p:nvCxnSpPr>
          <p:spPr>
            <a:xfrm>
              <a:off x="48888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3" name=""/>
            <p:cNvCxnSpPr>
              <a:stCxn id="1457" idx="6"/>
              <a:endCxn id="1458" idx="2"/>
            </p:cNvCxnSpPr>
            <p:nvPr/>
          </p:nvCxnSpPr>
          <p:spPr>
            <a:xfrm>
              <a:off x="494316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4" name=""/>
            <p:cNvCxnSpPr>
              <a:stCxn id="1460" idx="4"/>
              <a:endCxn id="1458" idx="0"/>
            </p:cNvCxnSpPr>
            <p:nvPr/>
          </p:nvCxnSpPr>
          <p:spPr>
            <a:xfrm>
              <a:off x="53697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5" name=""/>
            <p:cNvSpPr/>
            <p:nvPr/>
          </p:nvSpPr>
          <p:spPr>
            <a:xfrm>
              <a:off x="3871800" y="3854160"/>
              <a:ext cx="10728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5420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71800" y="34254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5420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9" name=""/>
            <p:cNvCxnSpPr>
              <a:stCxn id="1467" idx="6"/>
              <a:endCxn id="1468" idx="2"/>
            </p:cNvCxnSpPr>
            <p:nvPr/>
          </p:nvCxnSpPr>
          <p:spPr>
            <a:xfrm>
              <a:off x="39794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0" name=""/>
            <p:cNvCxnSpPr>
              <a:stCxn id="1467" idx="4"/>
              <a:endCxn id="1465" idx="0"/>
            </p:cNvCxnSpPr>
            <p:nvPr/>
          </p:nvCxnSpPr>
          <p:spPr>
            <a:xfrm>
              <a:off x="39250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1" name=""/>
            <p:cNvCxnSpPr>
              <a:stCxn id="1465" idx="6"/>
              <a:endCxn id="1466" idx="2"/>
            </p:cNvCxnSpPr>
            <p:nvPr/>
          </p:nvCxnSpPr>
          <p:spPr>
            <a:xfrm>
              <a:off x="39794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"/>
            <p:cNvCxnSpPr>
              <a:stCxn id="1468" idx="4"/>
              <a:endCxn id="1466" idx="0"/>
            </p:cNvCxnSpPr>
            <p:nvPr/>
          </p:nvCxnSpPr>
          <p:spPr>
            <a:xfrm>
              <a:off x="44064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"/>
            <p:cNvCxnSpPr>
              <a:stCxn id="1468" idx="6"/>
              <a:endCxn id="1459" idx="2"/>
            </p:cNvCxnSpPr>
            <p:nvPr/>
          </p:nvCxnSpPr>
          <p:spPr>
            <a:xfrm>
              <a:off x="4460400" y="34729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4" name=""/>
            <p:cNvCxnSpPr>
              <a:stCxn id="1466" idx="6"/>
              <a:endCxn id="1457" idx="2"/>
            </p:cNvCxnSpPr>
            <p:nvPr/>
          </p:nvCxnSpPr>
          <p:spPr>
            <a:xfrm>
              <a:off x="4460400" y="39013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5" name=""/>
            <p:cNvCxnSpPr>
              <a:stCxn id="1443" idx="6"/>
              <a:endCxn id="1467" idx="2"/>
            </p:cNvCxnSpPr>
            <p:nvPr/>
          </p:nvCxnSpPr>
          <p:spPr>
            <a:xfrm>
              <a:off x="34970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6" name=""/>
            <p:cNvCxnSpPr>
              <a:stCxn id="1441" idx="6"/>
              <a:endCxn id="1465" idx="2"/>
            </p:cNvCxnSpPr>
            <p:nvPr/>
          </p:nvCxnSpPr>
          <p:spPr>
            <a:xfrm>
              <a:off x="34970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7" name=""/>
            <p:cNvSpPr/>
            <p:nvPr/>
          </p:nvSpPr>
          <p:spPr>
            <a:xfrm>
              <a:off x="58528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3384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528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384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1" name=""/>
            <p:cNvCxnSpPr>
              <a:stCxn id="1479" idx="6"/>
              <a:endCxn id="1480" idx="2"/>
            </p:cNvCxnSpPr>
            <p:nvPr/>
          </p:nvCxnSpPr>
          <p:spPr>
            <a:xfrm>
              <a:off x="595908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2" name=""/>
            <p:cNvCxnSpPr>
              <a:stCxn id="1479" idx="4"/>
              <a:endCxn id="1477" idx="0"/>
            </p:cNvCxnSpPr>
            <p:nvPr/>
          </p:nvCxnSpPr>
          <p:spPr>
            <a:xfrm>
              <a:off x="59065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3" name=""/>
            <p:cNvCxnSpPr>
              <a:stCxn id="1477" idx="6"/>
              <a:endCxn id="1478" idx="2"/>
            </p:cNvCxnSpPr>
            <p:nvPr/>
          </p:nvCxnSpPr>
          <p:spPr>
            <a:xfrm>
              <a:off x="595908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4" name=""/>
            <p:cNvCxnSpPr>
              <a:stCxn id="1480" idx="4"/>
              <a:endCxn id="1478" idx="0"/>
            </p:cNvCxnSpPr>
            <p:nvPr/>
          </p:nvCxnSpPr>
          <p:spPr>
            <a:xfrm>
              <a:off x="63874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5" name=""/>
            <p:cNvCxnSpPr>
              <a:stCxn id="1460" idx="6"/>
              <a:endCxn id="1479" idx="2"/>
            </p:cNvCxnSpPr>
            <p:nvPr/>
          </p:nvCxnSpPr>
          <p:spPr>
            <a:xfrm>
              <a:off x="5424120" y="34729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6" name=""/>
            <p:cNvCxnSpPr>
              <a:stCxn id="1458" idx="6"/>
              <a:endCxn id="1477" idx="2"/>
            </p:cNvCxnSpPr>
            <p:nvPr/>
          </p:nvCxnSpPr>
          <p:spPr>
            <a:xfrm>
              <a:off x="5424120" y="39013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7" name=""/>
            <p:cNvCxnSpPr>
              <a:stCxn id="1449" idx="4"/>
              <a:endCxn id="1418" idx="0"/>
            </p:cNvCxnSpPr>
            <p:nvPr/>
          </p:nvCxnSpPr>
          <p:spPr>
            <a:xfrm>
              <a:off x="24789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8" name=""/>
            <p:cNvCxnSpPr>
              <a:stCxn id="1440" idx="4"/>
              <a:endCxn id="1412" idx="0"/>
            </p:cNvCxnSpPr>
            <p:nvPr/>
          </p:nvCxnSpPr>
          <p:spPr>
            <a:xfrm>
              <a:off x="29617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9" name=""/>
            <p:cNvCxnSpPr>
              <a:stCxn id="1441" idx="4"/>
              <a:endCxn id="1413" idx="0"/>
            </p:cNvCxnSpPr>
            <p:nvPr/>
          </p:nvCxnSpPr>
          <p:spPr>
            <a:xfrm>
              <a:off x="34426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0" name=""/>
            <p:cNvCxnSpPr>
              <a:stCxn id="1465" idx="4"/>
              <a:endCxn id="1427" idx="0"/>
            </p:cNvCxnSpPr>
            <p:nvPr/>
          </p:nvCxnSpPr>
          <p:spPr>
            <a:xfrm>
              <a:off x="39250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1" name=""/>
            <p:cNvCxnSpPr>
              <a:stCxn id="1466" idx="4"/>
              <a:endCxn id="1428" idx="0"/>
            </p:cNvCxnSpPr>
            <p:nvPr/>
          </p:nvCxnSpPr>
          <p:spPr>
            <a:xfrm>
              <a:off x="44064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2" name=""/>
            <p:cNvCxnSpPr>
              <a:stCxn id="1457" idx="4"/>
              <a:endCxn id="1422" idx="0"/>
            </p:cNvCxnSpPr>
            <p:nvPr/>
          </p:nvCxnSpPr>
          <p:spPr>
            <a:xfrm>
              <a:off x="48888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3" name=""/>
            <p:cNvCxnSpPr>
              <a:stCxn id="1458" idx="4"/>
              <a:endCxn id="1423" idx="0"/>
            </p:cNvCxnSpPr>
            <p:nvPr/>
          </p:nvCxnSpPr>
          <p:spPr>
            <a:xfrm>
              <a:off x="53697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4" name=""/>
            <p:cNvCxnSpPr>
              <a:stCxn id="1477" idx="4"/>
              <a:endCxn id="1434" idx="0"/>
            </p:cNvCxnSpPr>
            <p:nvPr/>
          </p:nvCxnSpPr>
          <p:spPr>
            <a:xfrm>
              <a:off x="59065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5" name=""/>
            <p:cNvCxnSpPr>
              <a:stCxn id="1478" idx="4"/>
              <a:endCxn id="1435" idx="0"/>
            </p:cNvCxnSpPr>
            <p:nvPr/>
          </p:nvCxnSpPr>
          <p:spPr>
            <a:xfrm>
              <a:off x="63874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6" name=""/>
            <p:cNvSpPr/>
            <p:nvPr/>
          </p:nvSpPr>
          <p:spPr>
            <a:xfrm>
              <a:off x="29080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9048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080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9048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0" name=""/>
            <p:cNvCxnSpPr>
              <a:stCxn id="1498" idx="6"/>
              <a:endCxn id="1499" idx="2"/>
            </p:cNvCxnSpPr>
            <p:nvPr/>
          </p:nvCxnSpPr>
          <p:spPr>
            <a:xfrm>
              <a:off x="301428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1" name=""/>
            <p:cNvCxnSpPr>
              <a:stCxn id="1498" idx="4"/>
              <a:endCxn id="1496" idx="0"/>
            </p:cNvCxnSpPr>
            <p:nvPr/>
          </p:nvCxnSpPr>
          <p:spPr>
            <a:xfrm>
              <a:off x="29617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2" name=""/>
            <p:cNvCxnSpPr>
              <a:stCxn id="1496" idx="6"/>
              <a:endCxn id="1497" idx="2"/>
            </p:cNvCxnSpPr>
            <p:nvPr/>
          </p:nvCxnSpPr>
          <p:spPr>
            <a:xfrm>
              <a:off x="301428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3" name=""/>
            <p:cNvCxnSpPr>
              <a:stCxn id="1499" idx="4"/>
              <a:endCxn id="1497" idx="0"/>
            </p:cNvCxnSpPr>
            <p:nvPr/>
          </p:nvCxnSpPr>
          <p:spPr>
            <a:xfrm>
              <a:off x="34426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04" name=""/>
            <p:cNvSpPr/>
            <p:nvPr/>
          </p:nvSpPr>
          <p:spPr>
            <a:xfrm>
              <a:off x="194472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271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4472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271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8" name=""/>
            <p:cNvCxnSpPr>
              <a:stCxn id="1506" idx="6"/>
              <a:endCxn id="1507" idx="2"/>
            </p:cNvCxnSpPr>
            <p:nvPr/>
          </p:nvCxnSpPr>
          <p:spPr>
            <a:xfrm>
              <a:off x="205092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9" name=""/>
            <p:cNvCxnSpPr>
              <a:stCxn id="1504" idx="6"/>
              <a:endCxn id="1505" idx="2"/>
            </p:cNvCxnSpPr>
            <p:nvPr/>
          </p:nvCxnSpPr>
          <p:spPr>
            <a:xfrm>
              <a:off x="205092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0" name=""/>
            <p:cNvCxnSpPr>
              <a:stCxn id="1507" idx="4"/>
              <a:endCxn id="1505" idx="0"/>
            </p:cNvCxnSpPr>
            <p:nvPr/>
          </p:nvCxnSpPr>
          <p:spPr>
            <a:xfrm>
              <a:off x="24789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1" name=""/>
            <p:cNvCxnSpPr>
              <a:stCxn id="1507" idx="6"/>
              <a:endCxn id="1498" idx="2"/>
            </p:cNvCxnSpPr>
            <p:nvPr/>
          </p:nvCxnSpPr>
          <p:spPr>
            <a:xfrm>
              <a:off x="253332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2" name=""/>
            <p:cNvCxnSpPr>
              <a:stCxn id="1505" idx="6"/>
              <a:endCxn id="1496" idx="2"/>
            </p:cNvCxnSpPr>
            <p:nvPr/>
          </p:nvCxnSpPr>
          <p:spPr>
            <a:xfrm>
              <a:off x="253332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/>
            <p:nvPr/>
          </p:nvSpPr>
          <p:spPr>
            <a:xfrm>
              <a:off x="483516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179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35160" y="2565000"/>
              <a:ext cx="107640" cy="954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179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7" name=""/>
            <p:cNvCxnSpPr>
              <a:stCxn id="1515" idx="6"/>
              <a:endCxn id="1516" idx="2"/>
            </p:cNvCxnSpPr>
            <p:nvPr/>
          </p:nvCxnSpPr>
          <p:spPr>
            <a:xfrm>
              <a:off x="494316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8" name=""/>
            <p:cNvCxnSpPr>
              <a:stCxn id="1515" idx="4"/>
              <a:endCxn id="1513" idx="0"/>
            </p:cNvCxnSpPr>
            <p:nvPr/>
          </p:nvCxnSpPr>
          <p:spPr>
            <a:xfrm>
              <a:off x="48888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9" name=""/>
            <p:cNvCxnSpPr>
              <a:stCxn id="1513" idx="6"/>
              <a:endCxn id="1514" idx="2"/>
            </p:cNvCxnSpPr>
            <p:nvPr/>
          </p:nvCxnSpPr>
          <p:spPr>
            <a:xfrm>
              <a:off x="494316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0" name=""/>
            <p:cNvCxnSpPr>
              <a:stCxn id="1516" idx="4"/>
              <a:endCxn id="1514" idx="0"/>
            </p:cNvCxnSpPr>
            <p:nvPr/>
          </p:nvCxnSpPr>
          <p:spPr>
            <a:xfrm>
              <a:off x="53697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1" name=""/>
            <p:cNvSpPr/>
            <p:nvPr/>
          </p:nvSpPr>
          <p:spPr>
            <a:xfrm>
              <a:off x="3871800" y="29952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420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71800" y="25650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420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5" name=""/>
            <p:cNvCxnSpPr>
              <a:stCxn id="1523" idx="6"/>
              <a:endCxn id="1524" idx="2"/>
            </p:cNvCxnSpPr>
            <p:nvPr/>
          </p:nvCxnSpPr>
          <p:spPr>
            <a:xfrm>
              <a:off x="39794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6" name=""/>
            <p:cNvCxnSpPr>
              <a:stCxn id="1523" idx="4"/>
              <a:endCxn id="1521" idx="0"/>
            </p:cNvCxnSpPr>
            <p:nvPr/>
          </p:nvCxnSpPr>
          <p:spPr>
            <a:xfrm>
              <a:off x="39250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7" name=""/>
            <p:cNvCxnSpPr>
              <a:stCxn id="1521" idx="6"/>
              <a:endCxn id="1522" idx="2"/>
            </p:cNvCxnSpPr>
            <p:nvPr/>
          </p:nvCxnSpPr>
          <p:spPr>
            <a:xfrm>
              <a:off x="39794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8" name=""/>
            <p:cNvCxnSpPr>
              <a:stCxn id="1524" idx="4"/>
              <a:endCxn id="1522" idx="0"/>
            </p:cNvCxnSpPr>
            <p:nvPr/>
          </p:nvCxnSpPr>
          <p:spPr>
            <a:xfrm>
              <a:off x="44064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9" name=""/>
            <p:cNvCxnSpPr>
              <a:stCxn id="1524" idx="6"/>
              <a:endCxn id="1515" idx="2"/>
            </p:cNvCxnSpPr>
            <p:nvPr/>
          </p:nvCxnSpPr>
          <p:spPr>
            <a:xfrm>
              <a:off x="4460400" y="2612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0" name=""/>
            <p:cNvCxnSpPr>
              <a:stCxn id="1522" idx="6"/>
              <a:endCxn id="1513" idx="2"/>
            </p:cNvCxnSpPr>
            <p:nvPr/>
          </p:nvCxnSpPr>
          <p:spPr>
            <a:xfrm>
              <a:off x="4460400" y="3042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1" name=""/>
            <p:cNvCxnSpPr>
              <a:stCxn id="1499" idx="6"/>
              <a:endCxn id="1523" idx="2"/>
            </p:cNvCxnSpPr>
            <p:nvPr/>
          </p:nvCxnSpPr>
          <p:spPr>
            <a:xfrm>
              <a:off x="34970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2" name=""/>
            <p:cNvCxnSpPr>
              <a:stCxn id="1497" idx="6"/>
              <a:endCxn id="1521" idx="2"/>
            </p:cNvCxnSpPr>
            <p:nvPr/>
          </p:nvCxnSpPr>
          <p:spPr>
            <a:xfrm>
              <a:off x="34970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3" name=""/>
            <p:cNvSpPr/>
            <p:nvPr/>
          </p:nvSpPr>
          <p:spPr>
            <a:xfrm>
              <a:off x="58528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3384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528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333840" y="25650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7" name=""/>
            <p:cNvCxnSpPr>
              <a:stCxn id="1535" idx="6"/>
              <a:endCxn id="1536" idx="2"/>
            </p:cNvCxnSpPr>
            <p:nvPr/>
          </p:nvCxnSpPr>
          <p:spPr>
            <a:xfrm>
              <a:off x="595908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8" name=""/>
            <p:cNvCxnSpPr>
              <a:stCxn id="1535" idx="4"/>
              <a:endCxn id="1533" idx="0"/>
            </p:cNvCxnSpPr>
            <p:nvPr/>
          </p:nvCxnSpPr>
          <p:spPr>
            <a:xfrm>
              <a:off x="59065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9" name=""/>
            <p:cNvCxnSpPr>
              <a:stCxn id="1533" idx="6"/>
              <a:endCxn id="1534" idx="2"/>
            </p:cNvCxnSpPr>
            <p:nvPr/>
          </p:nvCxnSpPr>
          <p:spPr>
            <a:xfrm>
              <a:off x="595908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0" name=""/>
            <p:cNvCxnSpPr>
              <a:stCxn id="1536" idx="4"/>
              <a:endCxn id="1534" idx="0"/>
            </p:cNvCxnSpPr>
            <p:nvPr/>
          </p:nvCxnSpPr>
          <p:spPr>
            <a:xfrm>
              <a:off x="63874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stCxn id="1516" idx="6"/>
              <a:endCxn id="1535" idx="2"/>
            </p:cNvCxnSpPr>
            <p:nvPr/>
          </p:nvCxnSpPr>
          <p:spPr>
            <a:xfrm>
              <a:off x="5424120" y="2612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>
              <a:stCxn id="1514" idx="6"/>
              <a:endCxn id="1533" idx="2"/>
            </p:cNvCxnSpPr>
            <p:nvPr/>
          </p:nvCxnSpPr>
          <p:spPr>
            <a:xfrm>
              <a:off x="5424120" y="3042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3" name=""/>
            <p:cNvSpPr/>
            <p:nvPr/>
          </p:nvSpPr>
          <p:spPr>
            <a:xfrm>
              <a:off x="29080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9048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080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39048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7" name=""/>
            <p:cNvCxnSpPr>
              <a:stCxn id="1545" idx="6"/>
              <a:endCxn id="1546" idx="2"/>
            </p:cNvCxnSpPr>
            <p:nvPr/>
          </p:nvCxnSpPr>
          <p:spPr>
            <a:xfrm>
              <a:off x="3014280" y="1753560"/>
              <a:ext cx="3765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48" name=""/>
            <p:cNvCxnSpPr>
              <a:stCxn id="1545" idx="4"/>
              <a:endCxn id="1543" idx="0"/>
            </p:cNvCxnSpPr>
            <p:nvPr/>
          </p:nvCxnSpPr>
          <p:spPr>
            <a:xfrm>
              <a:off x="29617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9" name=""/>
            <p:cNvCxnSpPr>
              <a:stCxn id="1543" idx="6"/>
              <a:endCxn id="1544" idx="2"/>
            </p:cNvCxnSpPr>
            <p:nvPr/>
          </p:nvCxnSpPr>
          <p:spPr>
            <a:xfrm>
              <a:off x="301428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0" name=""/>
            <p:cNvCxnSpPr>
              <a:stCxn id="1546" idx="4"/>
              <a:endCxn id="1544" idx="0"/>
            </p:cNvCxnSpPr>
            <p:nvPr/>
          </p:nvCxnSpPr>
          <p:spPr>
            <a:xfrm>
              <a:off x="34426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1" name=""/>
            <p:cNvSpPr/>
            <p:nvPr/>
          </p:nvSpPr>
          <p:spPr>
            <a:xfrm>
              <a:off x="194472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1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4472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271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5" name=""/>
            <p:cNvCxnSpPr>
              <a:stCxn id="1553" idx="6"/>
              <a:endCxn id="1554" idx="2"/>
            </p:cNvCxnSpPr>
            <p:nvPr/>
          </p:nvCxnSpPr>
          <p:spPr>
            <a:xfrm>
              <a:off x="2050920" y="17535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6" name=""/>
            <p:cNvCxnSpPr>
              <a:stCxn id="1551" idx="6"/>
              <a:endCxn id="1552" idx="2"/>
            </p:cNvCxnSpPr>
            <p:nvPr/>
          </p:nvCxnSpPr>
          <p:spPr>
            <a:xfrm>
              <a:off x="205092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7" name=""/>
            <p:cNvCxnSpPr>
              <a:stCxn id="1554" idx="4"/>
              <a:endCxn id="1552" idx="0"/>
            </p:cNvCxnSpPr>
            <p:nvPr/>
          </p:nvCxnSpPr>
          <p:spPr>
            <a:xfrm>
              <a:off x="24789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8" name=""/>
            <p:cNvCxnSpPr>
              <a:stCxn id="1554" idx="6"/>
              <a:endCxn id="1545" idx="2"/>
            </p:cNvCxnSpPr>
            <p:nvPr/>
          </p:nvCxnSpPr>
          <p:spPr>
            <a:xfrm>
              <a:off x="253332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59" name=""/>
            <p:cNvCxnSpPr>
              <a:stCxn id="1552" idx="6"/>
              <a:endCxn id="1543" idx="2"/>
            </p:cNvCxnSpPr>
            <p:nvPr/>
          </p:nvCxnSpPr>
          <p:spPr>
            <a:xfrm>
              <a:off x="253332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0" name=""/>
            <p:cNvSpPr/>
            <p:nvPr/>
          </p:nvSpPr>
          <p:spPr>
            <a:xfrm>
              <a:off x="483516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179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3516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179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4" name=""/>
            <p:cNvCxnSpPr>
              <a:stCxn id="1562" idx="6"/>
              <a:endCxn id="1563" idx="2"/>
            </p:cNvCxnSpPr>
            <p:nvPr/>
          </p:nvCxnSpPr>
          <p:spPr>
            <a:xfrm>
              <a:off x="494316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65" name=""/>
            <p:cNvCxnSpPr>
              <a:stCxn id="1562" idx="4"/>
              <a:endCxn id="1560" idx="0"/>
            </p:cNvCxnSpPr>
            <p:nvPr/>
          </p:nvCxnSpPr>
          <p:spPr>
            <a:xfrm>
              <a:off x="48888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6" name=""/>
            <p:cNvCxnSpPr>
              <a:stCxn id="1560" idx="6"/>
              <a:endCxn id="1561" idx="2"/>
            </p:cNvCxnSpPr>
            <p:nvPr/>
          </p:nvCxnSpPr>
          <p:spPr>
            <a:xfrm>
              <a:off x="494316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7" name=""/>
            <p:cNvCxnSpPr>
              <a:stCxn id="1563" idx="4"/>
              <a:endCxn id="1561" idx="0"/>
            </p:cNvCxnSpPr>
            <p:nvPr/>
          </p:nvCxnSpPr>
          <p:spPr>
            <a:xfrm>
              <a:off x="53697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8" name=""/>
            <p:cNvSpPr/>
            <p:nvPr/>
          </p:nvSpPr>
          <p:spPr>
            <a:xfrm>
              <a:off x="3871800" y="21366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5420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71800" y="17064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420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2" name=""/>
            <p:cNvCxnSpPr>
              <a:stCxn id="1570" idx="6"/>
              <a:endCxn id="1571" idx="2"/>
            </p:cNvCxnSpPr>
            <p:nvPr/>
          </p:nvCxnSpPr>
          <p:spPr>
            <a:xfrm>
              <a:off x="39794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3" name=""/>
            <p:cNvCxnSpPr>
              <a:stCxn id="1570" idx="4"/>
              <a:endCxn id="1568" idx="0"/>
            </p:cNvCxnSpPr>
            <p:nvPr/>
          </p:nvCxnSpPr>
          <p:spPr>
            <a:xfrm>
              <a:off x="39250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4" name=""/>
            <p:cNvCxnSpPr>
              <a:stCxn id="1568" idx="6"/>
              <a:endCxn id="1569" idx="2"/>
            </p:cNvCxnSpPr>
            <p:nvPr/>
          </p:nvCxnSpPr>
          <p:spPr>
            <a:xfrm>
              <a:off x="39794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5" name=""/>
            <p:cNvCxnSpPr>
              <a:stCxn id="1571" idx="4"/>
              <a:endCxn id="1569" idx="0"/>
            </p:cNvCxnSpPr>
            <p:nvPr/>
          </p:nvCxnSpPr>
          <p:spPr>
            <a:xfrm>
              <a:off x="440784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6" name=""/>
            <p:cNvCxnSpPr>
              <a:stCxn id="1571" idx="6"/>
              <a:endCxn id="1562" idx="2"/>
            </p:cNvCxnSpPr>
            <p:nvPr/>
          </p:nvCxnSpPr>
          <p:spPr>
            <a:xfrm>
              <a:off x="4460400" y="1753560"/>
              <a:ext cx="3747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7" name=""/>
            <p:cNvCxnSpPr>
              <a:stCxn id="1569" idx="6"/>
              <a:endCxn id="1560" idx="2"/>
            </p:cNvCxnSpPr>
            <p:nvPr/>
          </p:nvCxnSpPr>
          <p:spPr>
            <a:xfrm>
              <a:off x="4460400" y="218376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8" name=""/>
            <p:cNvCxnSpPr>
              <a:stCxn id="1546" idx="6"/>
              <a:endCxn id="1570" idx="2"/>
            </p:cNvCxnSpPr>
            <p:nvPr/>
          </p:nvCxnSpPr>
          <p:spPr>
            <a:xfrm>
              <a:off x="34970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9" name=""/>
            <p:cNvCxnSpPr>
              <a:stCxn id="1544" idx="6"/>
              <a:endCxn id="1568" idx="2"/>
            </p:cNvCxnSpPr>
            <p:nvPr/>
          </p:nvCxnSpPr>
          <p:spPr>
            <a:xfrm>
              <a:off x="34970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0" name=""/>
            <p:cNvSpPr/>
            <p:nvPr/>
          </p:nvSpPr>
          <p:spPr>
            <a:xfrm>
              <a:off x="58528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3384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528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384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4" name=""/>
            <p:cNvCxnSpPr>
              <a:stCxn id="1582" idx="6"/>
              <a:endCxn id="1583" idx="2"/>
            </p:cNvCxnSpPr>
            <p:nvPr/>
          </p:nvCxnSpPr>
          <p:spPr>
            <a:xfrm>
              <a:off x="5959080" y="17535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5" name=""/>
            <p:cNvCxnSpPr>
              <a:stCxn id="1582" idx="4"/>
              <a:endCxn id="1580" idx="0"/>
            </p:cNvCxnSpPr>
            <p:nvPr/>
          </p:nvCxnSpPr>
          <p:spPr>
            <a:xfrm>
              <a:off x="59065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6" name=""/>
            <p:cNvCxnSpPr>
              <a:stCxn id="1580" idx="6"/>
              <a:endCxn id="1581" idx="2"/>
            </p:cNvCxnSpPr>
            <p:nvPr/>
          </p:nvCxnSpPr>
          <p:spPr>
            <a:xfrm>
              <a:off x="595908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7" name=""/>
            <p:cNvCxnSpPr>
              <a:stCxn id="1583" idx="4"/>
              <a:endCxn id="1581" idx="0"/>
            </p:cNvCxnSpPr>
            <p:nvPr/>
          </p:nvCxnSpPr>
          <p:spPr>
            <a:xfrm>
              <a:off x="63874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8" name=""/>
            <p:cNvCxnSpPr>
              <a:stCxn id="1563" idx="6"/>
              <a:endCxn id="1582" idx="2"/>
            </p:cNvCxnSpPr>
            <p:nvPr/>
          </p:nvCxnSpPr>
          <p:spPr>
            <a:xfrm>
              <a:off x="5424120" y="1753560"/>
              <a:ext cx="429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89" name=""/>
            <p:cNvCxnSpPr>
              <a:stCxn id="1561" idx="6"/>
              <a:endCxn id="1580" idx="2"/>
            </p:cNvCxnSpPr>
            <p:nvPr/>
          </p:nvCxnSpPr>
          <p:spPr>
            <a:xfrm>
              <a:off x="5424120" y="218376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0" name=""/>
            <p:cNvCxnSpPr>
              <a:stCxn id="1552" idx="4"/>
              <a:endCxn id="1507" idx="0"/>
            </p:cNvCxnSpPr>
            <p:nvPr/>
          </p:nvCxnSpPr>
          <p:spPr>
            <a:xfrm>
              <a:off x="24789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1" name=""/>
            <p:cNvCxnSpPr>
              <a:stCxn id="1543" idx="4"/>
              <a:endCxn id="1498" idx="0"/>
            </p:cNvCxnSpPr>
            <p:nvPr/>
          </p:nvCxnSpPr>
          <p:spPr>
            <a:xfrm>
              <a:off x="29617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"/>
            <p:cNvCxnSpPr>
              <a:stCxn id="1544" idx="4"/>
              <a:endCxn id="1499" idx="0"/>
            </p:cNvCxnSpPr>
            <p:nvPr/>
          </p:nvCxnSpPr>
          <p:spPr>
            <a:xfrm>
              <a:off x="34426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"/>
            <p:cNvCxnSpPr>
              <a:stCxn id="1568" idx="4"/>
              <a:endCxn id="1523" idx="0"/>
            </p:cNvCxnSpPr>
            <p:nvPr/>
          </p:nvCxnSpPr>
          <p:spPr>
            <a:xfrm>
              <a:off x="39250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"/>
            <p:cNvCxnSpPr>
              <a:stCxn id="1569" idx="4"/>
              <a:endCxn id="1524" idx="0"/>
            </p:cNvCxnSpPr>
            <p:nvPr/>
          </p:nvCxnSpPr>
          <p:spPr>
            <a:xfrm>
              <a:off x="44064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"/>
            <p:cNvCxnSpPr>
              <a:stCxn id="1560" idx="4"/>
              <a:endCxn id="1515" idx="0"/>
            </p:cNvCxnSpPr>
            <p:nvPr/>
          </p:nvCxnSpPr>
          <p:spPr>
            <a:xfrm>
              <a:off x="48888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"/>
            <p:cNvCxnSpPr>
              <a:stCxn id="1561" idx="4"/>
              <a:endCxn id="1516" idx="0"/>
            </p:cNvCxnSpPr>
            <p:nvPr/>
          </p:nvCxnSpPr>
          <p:spPr>
            <a:xfrm>
              <a:off x="53697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"/>
            <p:cNvCxnSpPr>
              <a:stCxn id="1580" idx="4"/>
              <a:endCxn id="1535" idx="0"/>
            </p:cNvCxnSpPr>
            <p:nvPr/>
          </p:nvCxnSpPr>
          <p:spPr>
            <a:xfrm>
              <a:off x="59065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"/>
            <p:cNvCxnSpPr>
              <a:stCxn id="1581" idx="4"/>
              <a:endCxn id="1536" idx="0"/>
            </p:cNvCxnSpPr>
            <p:nvPr/>
          </p:nvCxnSpPr>
          <p:spPr>
            <a:xfrm>
              <a:off x="63874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"/>
            <p:cNvCxnSpPr>
              <a:stCxn id="1505" idx="4"/>
              <a:endCxn id="1451" idx="0"/>
            </p:cNvCxnSpPr>
            <p:nvPr/>
          </p:nvCxnSpPr>
          <p:spPr>
            <a:xfrm>
              <a:off x="24789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"/>
            <p:cNvCxnSpPr>
              <a:stCxn id="1496" idx="4"/>
              <a:endCxn id="1442" idx="0"/>
            </p:cNvCxnSpPr>
            <p:nvPr/>
          </p:nvCxnSpPr>
          <p:spPr>
            <a:xfrm>
              <a:off x="29617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"/>
            <p:cNvCxnSpPr>
              <a:stCxn id="1497" idx="4"/>
              <a:endCxn id="1443" idx="0"/>
            </p:cNvCxnSpPr>
            <p:nvPr/>
          </p:nvCxnSpPr>
          <p:spPr>
            <a:xfrm>
              <a:off x="34426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"/>
            <p:cNvCxnSpPr>
              <a:stCxn id="1521" idx="4"/>
              <a:endCxn id="1467" idx="0"/>
            </p:cNvCxnSpPr>
            <p:nvPr/>
          </p:nvCxnSpPr>
          <p:spPr>
            <a:xfrm>
              <a:off x="39250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"/>
            <p:cNvCxnSpPr>
              <a:stCxn id="1522" idx="4"/>
              <a:endCxn id="1468" idx="0"/>
            </p:cNvCxnSpPr>
            <p:nvPr/>
          </p:nvCxnSpPr>
          <p:spPr>
            <a:xfrm>
              <a:off x="44064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4" name=""/>
            <p:cNvCxnSpPr>
              <a:stCxn id="1513" idx="4"/>
              <a:endCxn id="1459" idx="0"/>
            </p:cNvCxnSpPr>
            <p:nvPr/>
          </p:nvCxnSpPr>
          <p:spPr>
            <a:xfrm>
              <a:off x="48888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5" name=""/>
            <p:cNvCxnSpPr>
              <a:stCxn id="1514" idx="4"/>
              <a:endCxn id="1460" idx="0"/>
            </p:cNvCxnSpPr>
            <p:nvPr/>
          </p:nvCxnSpPr>
          <p:spPr>
            <a:xfrm>
              <a:off x="53697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6" name=""/>
            <p:cNvCxnSpPr>
              <a:stCxn id="1533" idx="4"/>
              <a:endCxn id="1479" idx="0"/>
            </p:cNvCxnSpPr>
            <p:nvPr/>
          </p:nvCxnSpPr>
          <p:spPr>
            <a:xfrm>
              <a:off x="59065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7" name=""/>
            <p:cNvCxnSpPr>
              <a:stCxn id="1534" idx="4"/>
              <a:endCxn id="1480" idx="0"/>
            </p:cNvCxnSpPr>
            <p:nvPr/>
          </p:nvCxnSpPr>
          <p:spPr>
            <a:xfrm>
              <a:off x="63874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8" name=""/>
            <p:cNvSpPr/>
            <p:nvPr/>
          </p:nvSpPr>
          <p:spPr>
            <a:xfrm>
              <a:off x="291132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937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0" name=""/>
            <p:cNvCxnSpPr>
              <a:stCxn id="1608" idx="6"/>
              <a:endCxn id="1609" idx="2"/>
            </p:cNvCxnSpPr>
            <p:nvPr/>
          </p:nvCxnSpPr>
          <p:spPr>
            <a:xfrm>
              <a:off x="301896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1" name=""/>
            <p:cNvSpPr/>
            <p:nvPr/>
          </p:nvSpPr>
          <p:spPr>
            <a:xfrm>
              <a:off x="19476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303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3" name=""/>
            <p:cNvCxnSpPr>
              <a:stCxn id="1611" idx="6"/>
              <a:endCxn id="1612" idx="2"/>
            </p:cNvCxnSpPr>
            <p:nvPr/>
          </p:nvCxnSpPr>
          <p:spPr>
            <a:xfrm>
              <a:off x="20556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4" name=""/>
            <p:cNvCxnSpPr>
              <a:stCxn id="1612" idx="6"/>
              <a:endCxn id="1608" idx="2"/>
            </p:cNvCxnSpPr>
            <p:nvPr/>
          </p:nvCxnSpPr>
          <p:spPr>
            <a:xfrm>
              <a:off x="253656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5" name=""/>
            <p:cNvSpPr/>
            <p:nvPr/>
          </p:nvSpPr>
          <p:spPr>
            <a:xfrm>
              <a:off x="48384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211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7" name=""/>
            <p:cNvCxnSpPr>
              <a:stCxn id="1615" idx="6"/>
              <a:endCxn id="1616" idx="2"/>
            </p:cNvCxnSpPr>
            <p:nvPr/>
          </p:nvCxnSpPr>
          <p:spPr>
            <a:xfrm>
              <a:off x="49464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8" name=""/>
            <p:cNvSpPr/>
            <p:nvPr/>
          </p:nvSpPr>
          <p:spPr>
            <a:xfrm>
              <a:off x="387468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5744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0" name=""/>
            <p:cNvCxnSpPr>
              <a:stCxn id="1618" idx="6"/>
              <a:endCxn id="1619" idx="2"/>
            </p:cNvCxnSpPr>
            <p:nvPr/>
          </p:nvCxnSpPr>
          <p:spPr>
            <a:xfrm>
              <a:off x="398268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1" name=""/>
            <p:cNvCxnSpPr>
              <a:stCxn id="1619" idx="6"/>
              <a:endCxn id="1615" idx="2"/>
            </p:cNvCxnSpPr>
            <p:nvPr/>
          </p:nvCxnSpPr>
          <p:spPr>
            <a:xfrm>
              <a:off x="446364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2" name=""/>
            <p:cNvCxnSpPr>
              <a:stCxn id="1609" idx="6"/>
              <a:endCxn id="1618" idx="2"/>
            </p:cNvCxnSpPr>
            <p:nvPr/>
          </p:nvCxnSpPr>
          <p:spPr>
            <a:xfrm>
              <a:off x="349992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3" name=""/>
            <p:cNvSpPr/>
            <p:nvPr/>
          </p:nvSpPr>
          <p:spPr>
            <a:xfrm>
              <a:off x="585612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85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3" idx="6"/>
              <a:endCxn id="1624" idx="2"/>
            </p:cNvCxnSpPr>
            <p:nvPr/>
          </p:nvCxnSpPr>
          <p:spPr>
            <a:xfrm>
              <a:off x="5962320" y="56206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616" idx="6"/>
              <a:endCxn id="1623" idx="2"/>
            </p:cNvCxnSpPr>
            <p:nvPr/>
          </p:nvCxnSpPr>
          <p:spPr>
            <a:xfrm>
              <a:off x="5427360" y="56206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7" name=""/>
            <p:cNvSpPr/>
            <p:nvPr/>
          </p:nvSpPr>
          <p:spPr>
            <a:xfrm>
              <a:off x="291132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937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1132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3937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1" name=""/>
            <p:cNvCxnSpPr>
              <a:stCxn id="1629" idx="6"/>
              <a:endCxn id="1630" idx="2"/>
            </p:cNvCxnSpPr>
            <p:nvPr/>
          </p:nvCxnSpPr>
          <p:spPr>
            <a:xfrm>
              <a:off x="301896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2" name=""/>
            <p:cNvCxnSpPr>
              <a:stCxn id="1629" idx="4"/>
              <a:endCxn id="1627" idx="0"/>
            </p:cNvCxnSpPr>
            <p:nvPr/>
          </p:nvCxnSpPr>
          <p:spPr>
            <a:xfrm>
              <a:off x="29649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3" name=""/>
            <p:cNvCxnSpPr>
              <a:stCxn id="1627" idx="6"/>
              <a:endCxn id="1628" idx="2"/>
            </p:cNvCxnSpPr>
            <p:nvPr/>
          </p:nvCxnSpPr>
          <p:spPr>
            <a:xfrm>
              <a:off x="301896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4" name=""/>
            <p:cNvCxnSpPr>
              <a:stCxn id="1630" idx="4"/>
              <a:endCxn id="1628" idx="0"/>
            </p:cNvCxnSpPr>
            <p:nvPr/>
          </p:nvCxnSpPr>
          <p:spPr>
            <a:xfrm>
              <a:off x="34459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5" name=""/>
            <p:cNvSpPr/>
            <p:nvPr/>
          </p:nvSpPr>
          <p:spPr>
            <a:xfrm>
              <a:off x="19476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4303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476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303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9" name=""/>
            <p:cNvCxnSpPr>
              <a:stCxn id="1637" idx="6"/>
              <a:endCxn id="1638" idx="2"/>
            </p:cNvCxnSpPr>
            <p:nvPr/>
          </p:nvCxnSpPr>
          <p:spPr>
            <a:xfrm>
              <a:off x="20556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0" name=""/>
            <p:cNvCxnSpPr>
              <a:stCxn id="1635" idx="6"/>
              <a:endCxn id="1636" idx="2"/>
            </p:cNvCxnSpPr>
            <p:nvPr/>
          </p:nvCxnSpPr>
          <p:spPr>
            <a:xfrm>
              <a:off x="20556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1" name=""/>
            <p:cNvCxnSpPr>
              <a:stCxn id="1638" idx="4"/>
              <a:endCxn id="1636" idx="0"/>
            </p:cNvCxnSpPr>
            <p:nvPr/>
          </p:nvCxnSpPr>
          <p:spPr>
            <a:xfrm>
              <a:off x="24822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2" name=""/>
            <p:cNvCxnSpPr>
              <a:stCxn id="1638" idx="6"/>
              <a:endCxn id="1629" idx="2"/>
            </p:cNvCxnSpPr>
            <p:nvPr/>
          </p:nvCxnSpPr>
          <p:spPr>
            <a:xfrm>
              <a:off x="253656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3" name=""/>
            <p:cNvCxnSpPr>
              <a:stCxn id="1636" idx="6"/>
              <a:endCxn id="1627" idx="2"/>
            </p:cNvCxnSpPr>
            <p:nvPr/>
          </p:nvCxnSpPr>
          <p:spPr>
            <a:xfrm>
              <a:off x="253656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4" name=""/>
            <p:cNvSpPr/>
            <p:nvPr/>
          </p:nvSpPr>
          <p:spPr>
            <a:xfrm>
              <a:off x="48384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3211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384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211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8" name=""/>
            <p:cNvCxnSpPr>
              <a:stCxn id="1646" idx="6"/>
              <a:endCxn id="1647" idx="2"/>
            </p:cNvCxnSpPr>
            <p:nvPr/>
          </p:nvCxnSpPr>
          <p:spPr>
            <a:xfrm>
              <a:off x="49464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9" name=""/>
            <p:cNvCxnSpPr>
              <a:stCxn id="1646" idx="4"/>
              <a:endCxn id="1644" idx="0"/>
            </p:cNvCxnSpPr>
            <p:nvPr/>
          </p:nvCxnSpPr>
          <p:spPr>
            <a:xfrm>
              <a:off x="48920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0" name=""/>
            <p:cNvCxnSpPr>
              <a:stCxn id="1644" idx="6"/>
              <a:endCxn id="1645" idx="2"/>
            </p:cNvCxnSpPr>
            <p:nvPr/>
          </p:nvCxnSpPr>
          <p:spPr>
            <a:xfrm>
              <a:off x="49464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1" name=""/>
            <p:cNvCxnSpPr>
              <a:stCxn id="1647" idx="4"/>
              <a:endCxn id="1645" idx="0"/>
            </p:cNvCxnSpPr>
            <p:nvPr/>
          </p:nvCxnSpPr>
          <p:spPr>
            <a:xfrm>
              <a:off x="53748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2" name=""/>
            <p:cNvSpPr/>
            <p:nvPr/>
          </p:nvSpPr>
          <p:spPr>
            <a:xfrm>
              <a:off x="387468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744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7468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744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6" name=""/>
            <p:cNvCxnSpPr>
              <a:stCxn id="1654" idx="6"/>
              <a:endCxn id="1655" idx="2"/>
            </p:cNvCxnSpPr>
            <p:nvPr/>
          </p:nvCxnSpPr>
          <p:spPr>
            <a:xfrm>
              <a:off x="398268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7" name=""/>
            <p:cNvCxnSpPr>
              <a:stCxn id="1654" idx="4"/>
              <a:endCxn id="1652" idx="0"/>
            </p:cNvCxnSpPr>
            <p:nvPr/>
          </p:nvCxnSpPr>
          <p:spPr>
            <a:xfrm>
              <a:off x="39283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8" name=""/>
            <p:cNvCxnSpPr>
              <a:stCxn id="1652" idx="6"/>
              <a:endCxn id="1653" idx="2"/>
            </p:cNvCxnSpPr>
            <p:nvPr/>
          </p:nvCxnSpPr>
          <p:spPr>
            <a:xfrm>
              <a:off x="398268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9" name=""/>
            <p:cNvCxnSpPr>
              <a:stCxn id="1655" idx="4"/>
              <a:endCxn id="1653" idx="0"/>
            </p:cNvCxnSpPr>
            <p:nvPr/>
          </p:nvCxnSpPr>
          <p:spPr>
            <a:xfrm>
              <a:off x="440928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0" name=""/>
            <p:cNvCxnSpPr>
              <a:stCxn id="1655" idx="6"/>
              <a:endCxn id="1646" idx="2"/>
            </p:cNvCxnSpPr>
            <p:nvPr/>
          </p:nvCxnSpPr>
          <p:spPr>
            <a:xfrm>
              <a:off x="446364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1" name=""/>
            <p:cNvCxnSpPr>
              <a:stCxn id="1653" idx="6"/>
              <a:endCxn id="1644" idx="2"/>
            </p:cNvCxnSpPr>
            <p:nvPr/>
          </p:nvCxnSpPr>
          <p:spPr>
            <a:xfrm>
              <a:off x="446364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2" name=""/>
            <p:cNvCxnSpPr>
              <a:stCxn id="1630" idx="6"/>
              <a:endCxn id="1654" idx="2"/>
            </p:cNvCxnSpPr>
            <p:nvPr/>
          </p:nvCxnSpPr>
          <p:spPr>
            <a:xfrm>
              <a:off x="349992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3" name=""/>
            <p:cNvCxnSpPr>
              <a:stCxn id="1628" idx="6"/>
              <a:endCxn id="1652" idx="2"/>
            </p:cNvCxnSpPr>
            <p:nvPr/>
          </p:nvCxnSpPr>
          <p:spPr>
            <a:xfrm>
              <a:off x="349992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4" name=""/>
            <p:cNvSpPr/>
            <p:nvPr/>
          </p:nvSpPr>
          <p:spPr>
            <a:xfrm>
              <a:off x="585612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85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5612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85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8" name=""/>
            <p:cNvCxnSpPr>
              <a:stCxn id="1666" idx="6"/>
              <a:endCxn id="1667" idx="2"/>
            </p:cNvCxnSpPr>
            <p:nvPr/>
          </p:nvCxnSpPr>
          <p:spPr>
            <a:xfrm>
              <a:off x="5962320" y="4761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9" name=""/>
            <p:cNvCxnSpPr>
              <a:stCxn id="1666" idx="4"/>
              <a:endCxn id="1664" idx="0"/>
            </p:cNvCxnSpPr>
            <p:nvPr/>
          </p:nvCxnSpPr>
          <p:spPr>
            <a:xfrm>
              <a:off x="59097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stCxn id="1664" idx="6"/>
              <a:endCxn id="1665" idx="2"/>
            </p:cNvCxnSpPr>
            <p:nvPr/>
          </p:nvCxnSpPr>
          <p:spPr>
            <a:xfrm>
              <a:off x="5962320" y="51904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1" name=""/>
            <p:cNvCxnSpPr>
              <a:stCxn id="1667" idx="4"/>
              <a:endCxn id="1665" idx="0"/>
            </p:cNvCxnSpPr>
            <p:nvPr/>
          </p:nvCxnSpPr>
          <p:spPr>
            <a:xfrm>
              <a:off x="63907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2" name=""/>
            <p:cNvCxnSpPr>
              <a:stCxn id="1647" idx="6"/>
              <a:endCxn id="1666" idx="2"/>
            </p:cNvCxnSpPr>
            <p:nvPr/>
          </p:nvCxnSpPr>
          <p:spPr>
            <a:xfrm>
              <a:off x="5427360" y="4761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stCxn id="1645" idx="6"/>
              <a:endCxn id="1664" idx="2"/>
            </p:cNvCxnSpPr>
            <p:nvPr/>
          </p:nvCxnSpPr>
          <p:spPr>
            <a:xfrm>
              <a:off x="5427360" y="51904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4" name=""/>
            <p:cNvCxnSpPr>
              <a:stCxn id="1635" idx="4"/>
              <a:endCxn id="1611" idx="0"/>
            </p:cNvCxnSpPr>
            <p:nvPr/>
          </p:nvCxnSpPr>
          <p:spPr>
            <a:xfrm>
              <a:off x="20012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5" name=""/>
            <p:cNvCxnSpPr>
              <a:stCxn id="1636" idx="4"/>
              <a:endCxn id="1612" idx="0"/>
            </p:cNvCxnSpPr>
            <p:nvPr/>
          </p:nvCxnSpPr>
          <p:spPr>
            <a:xfrm>
              <a:off x="24822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6" name=""/>
            <p:cNvCxnSpPr>
              <a:stCxn id="1627" idx="4"/>
              <a:endCxn id="1608" idx="0"/>
            </p:cNvCxnSpPr>
            <p:nvPr/>
          </p:nvCxnSpPr>
          <p:spPr>
            <a:xfrm>
              <a:off x="29649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7" name=""/>
            <p:cNvCxnSpPr>
              <a:stCxn id="1628" idx="4"/>
              <a:endCxn id="1609" idx="0"/>
            </p:cNvCxnSpPr>
            <p:nvPr/>
          </p:nvCxnSpPr>
          <p:spPr>
            <a:xfrm>
              <a:off x="34459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8" name=""/>
            <p:cNvCxnSpPr>
              <a:stCxn id="1652" idx="4"/>
              <a:endCxn id="1618" idx="0"/>
            </p:cNvCxnSpPr>
            <p:nvPr/>
          </p:nvCxnSpPr>
          <p:spPr>
            <a:xfrm>
              <a:off x="39283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9" name=""/>
            <p:cNvCxnSpPr>
              <a:stCxn id="1653" idx="4"/>
              <a:endCxn id="1619" idx="0"/>
            </p:cNvCxnSpPr>
            <p:nvPr/>
          </p:nvCxnSpPr>
          <p:spPr>
            <a:xfrm>
              <a:off x="440928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0" name=""/>
            <p:cNvCxnSpPr>
              <a:stCxn id="1644" idx="4"/>
              <a:endCxn id="1615" idx="0"/>
            </p:cNvCxnSpPr>
            <p:nvPr/>
          </p:nvCxnSpPr>
          <p:spPr>
            <a:xfrm>
              <a:off x="48920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1" name=""/>
            <p:cNvCxnSpPr>
              <a:stCxn id="1645" idx="4"/>
              <a:endCxn id="1616" idx="0"/>
            </p:cNvCxnSpPr>
            <p:nvPr/>
          </p:nvCxnSpPr>
          <p:spPr>
            <a:xfrm>
              <a:off x="53748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2" name=""/>
            <p:cNvCxnSpPr>
              <a:stCxn id="1664" idx="4"/>
              <a:endCxn id="1623" idx="0"/>
            </p:cNvCxnSpPr>
            <p:nvPr/>
          </p:nvCxnSpPr>
          <p:spPr>
            <a:xfrm>
              <a:off x="59097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65" idx="4"/>
              <a:endCxn id="1624" idx="0"/>
            </p:cNvCxnSpPr>
            <p:nvPr/>
          </p:nvCxnSpPr>
          <p:spPr>
            <a:xfrm>
              <a:off x="63907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/>
            <p:nvPr/>
          </p:nvCxnSpPr>
          <p:spPr>
            <a:xfrm>
              <a:off x="19980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5" name=""/>
            <p:cNvCxnSpPr/>
            <p:nvPr/>
          </p:nvCxnSpPr>
          <p:spPr>
            <a:xfrm>
              <a:off x="19980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6" name=""/>
            <p:cNvCxnSpPr/>
            <p:nvPr/>
          </p:nvCxnSpPr>
          <p:spPr>
            <a:xfrm>
              <a:off x="19980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7" name=""/>
            <p:cNvCxnSpPr/>
            <p:nvPr/>
          </p:nvCxnSpPr>
          <p:spPr>
            <a:xfrm>
              <a:off x="19980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8" name=""/>
            <p:cNvCxnSpPr/>
            <p:nvPr/>
          </p:nvCxnSpPr>
          <p:spPr>
            <a:xfrm>
              <a:off x="19980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9" name=""/>
            <p:cNvCxnSpPr/>
            <p:nvPr/>
          </p:nvCxnSpPr>
          <p:spPr>
            <a:xfrm>
              <a:off x="19980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0" name=""/>
            <p:cNvCxnSpPr/>
            <p:nvPr/>
          </p:nvCxnSpPr>
          <p:spPr>
            <a:xfrm>
              <a:off x="19980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/>
            <p:nvPr/>
          </p:nvCxnSpPr>
          <p:spPr>
            <a:xfrm>
              <a:off x="20012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692" name=""/>
            <p:cNvGrpSpPr/>
            <p:nvPr/>
          </p:nvGrpSpPr>
          <p:grpSpPr>
            <a:xfrm>
              <a:off x="4001760" y="1858320"/>
              <a:ext cx="0" cy="3629160"/>
              <a:chOff x="4001760" y="1858320"/>
              <a:chExt cx="0" cy="3629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001760" y="40557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4001760" y="362520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4001760" y="3195360"/>
                <a:ext cx="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001760" y="27662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001760" y="23360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001760" y="185832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001760" y="53431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1760" y="49143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01760" y="44841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158200" y="2101680"/>
              <a:ext cx="4039920" cy="0"/>
              <a:chOff x="2158200" y="2101680"/>
              <a:chExt cx="4039920" cy="0"/>
            </a:xfrm>
          </p:grpSpPr>
          <p:sp>
            <p:nvSpPr>
              <p:cNvPr id="1703" name=""/>
              <p:cNvSpPr/>
              <p:nvPr/>
            </p:nvSpPr>
            <p:spPr>
              <a:xfrm flipH="1">
                <a:off x="35949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726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522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284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080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03972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158200" y="2101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26391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11724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4938480" y="1858320"/>
              <a:ext cx="0" cy="1479960"/>
              <a:chOff x="4938480" y="1858320"/>
              <a:chExt cx="0" cy="1479960"/>
            </a:xfrm>
          </p:grpSpPr>
          <p:sp>
            <p:nvSpPr>
              <p:cNvPr id="1713" name=""/>
              <p:cNvSpPr/>
              <p:nvPr/>
            </p:nvSpPr>
            <p:spPr>
              <a:xfrm>
                <a:off x="4938480" y="319536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938480" y="276660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4938480" y="233604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4938480" y="185832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2172600" y="3839760"/>
              <a:ext cx="4039920" cy="0"/>
              <a:chOff x="2172600" y="3839760"/>
              <a:chExt cx="4039920" cy="0"/>
            </a:xfrm>
          </p:grpSpPr>
          <p:sp>
            <p:nvSpPr>
              <p:cNvPr id="1718" name=""/>
              <p:cNvSpPr/>
              <p:nvPr/>
            </p:nvSpPr>
            <p:spPr>
              <a:xfrm flipH="1">
                <a:off x="36093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870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5666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0428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224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5412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2172600" y="383976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26535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13164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2158200" y="5557680"/>
              <a:ext cx="4039920" cy="0"/>
              <a:chOff x="2158200" y="5557680"/>
              <a:chExt cx="4039920" cy="0"/>
            </a:xfrm>
          </p:grpSpPr>
          <p:sp>
            <p:nvSpPr>
              <p:cNvPr id="1728" name=""/>
              <p:cNvSpPr/>
              <p:nvPr/>
            </p:nvSpPr>
            <p:spPr>
              <a:xfrm flipH="1">
                <a:off x="35949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726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522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0284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5080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03972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158200" y="5557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6391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11724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4901400" y="22888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86640" y="3403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1598760" y="581184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query frequency &gt; event frequenc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785-1879-4C38-A471-5A2C128576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Spectrum of Push and Pul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1742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1081800" y="543564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Inter-spike spacing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944720" y="5227560"/>
            <a:ext cx="137160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256000" y="5029200"/>
            <a:ext cx="18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ver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1754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50472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BE3-6286-4424-8F56-2CE93D528FD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d-term Re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balancing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aptiv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4C1-949E-4FBF-A03C-A4982A6491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egies for Improving Reli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leaved mesh (transi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 update (perman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ed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nd balance query success rate at different geo-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level redundanc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=2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5A3-AF21-427F-8A93-4261B1857E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tial Divers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5574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4020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"/>
          <p:cNvCxnSpPr>
            <a:stCxn id="1762" idx="6"/>
            <a:endCxn id="1763" idx="2"/>
          </p:cNvCxnSpPr>
          <p:nvPr/>
        </p:nvCxnSpPr>
        <p:spPr>
          <a:xfrm>
            <a:off x="266364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762" idx="4"/>
          </p:cNvCxnSpPr>
          <p:nvPr/>
        </p:nvCxnSpPr>
        <p:spPr>
          <a:xfrm>
            <a:off x="26110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6" name=""/>
          <p:cNvCxnSpPr>
            <a:stCxn id="1763" idx="4"/>
          </p:cNvCxnSpPr>
          <p:nvPr/>
        </p:nvCxnSpPr>
        <p:spPr>
          <a:xfrm>
            <a:off x="3093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7" name=""/>
          <p:cNvSpPr/>
          <p:nvPr/>
        </p:nvSpPr>
        <p:spPr>
          <a:xfrm>
            <a:off x="159372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764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9" name=""/>
          <p:cNvCxnSpPr>
            <a:stCxn id="1767" idx="6"/>
            <a:endCxn id="1768" idx="2"/>
          </p:cNvCxnSpPr>
          <p:nvPr/>
        </p:nvCxnSpPr>
        <p:spPr>
          <a:xfrm>
            <a:off x="169992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7" idx="4"/>
          </p:cNvCxnSpPr>
          <p:nvPr/>
        </p:nvCxnSpPr>
        <p:spPr>
          <a:xfrm>
            <a:off x="16473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8" idx="4"/>
          </p:cNvCxnSpPr>
          <p:nvPr/>
        </p:nvCxnSpPr>
        <p:spPr>
          <a:xfrm>
            <a:off x="21301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8" idx="6"/>
            <a:endCxn id="1762" idx="2"/>
          </p:cNvCxnSpPr>
          <p:nvPr/>
        </p:nvCxnSpPr>
        <p:spPr>
          <a:xfrm>
            <a:off x="218232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3" name=""/>
          <p:cNvSpPr/>
          <p:nvPr/>
        </p:nvSpPr>
        <p:spPr>
          <a:xfrm>
            <a:off x="448452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9672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"/>
          <p:cNvCxnSpPr>
            <a:stCxn id="1773" idx="6"/>
            <a:endCxn id="1774" idx="2"/>
          </p:cNvCxnSpPr>
          <p:nvPr/>
        </p:nvCxnSpPr>
        <p:spPr>
          <a:xfrm>
            <a:off x="459216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73" idx="4"/>
          </p:cNvCxnSpPr>
          <p:nvPr/>
        </p:nvCxnSpPr>
        <p:spPr>
          <a:xfrm>
            <a:off x="45381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7" name=""/>
          <p:cNvCxnSpPr>
            <a:stCxn id="1774" idx="4"/>
          </p:cNvCxnSpPr>
          <p:nvPr/>
        </p:nvCxnSpPr>
        <p:spPr>
          <a:xfrm>
            <a:off x="50209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8" name=""/>
          <p:cNvSpPr/>
          <p:nvPr/>
        </p:nvSpPr>
        <p:spPr>
          <a:xfrm>
            <a:off x="352116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00356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stCxn id="1778" idx="6"/>
            <a:endCxn id="1779" idx="2"/>
          </p:cNvCxnSpPr>
          <p:nvPr/>
        </p:nvCxnSpPr>
        <p:spPr>
          <a:xfrm>
            <a:off x="362916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8" idx="4"/>
          </p:cNvCxnSpPr>
          <p:nvPr/>
        </p:nvCxnSpPr>
        <p:spPr>
          <a:xfrm>
            <a:off x="35748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2" name=""/>
          <p:cNvCxnSpPr>
            <a:stCxn id="1779" idx="4"/>
          </p:cNvCxnSpPr>
          <p:nvPr/>
        </p:nvCxnSpPr>
        <p:spPr>
          <a:xfrm>
            <a:off x="40572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9" idx="6"/>
            <a:endCxn id="1773" idx="2"/>
          </p:cNvCxnSpPr>
          <p:nvPr/>
        </p:nvCxnSpPr>
        <p:spPr>
          <a:xfrm>
            <a:off x="411012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4" name=""/>
          <p:cNvCxnSpPr>
            <a:stCxn id="1763" idx="6"/>
            <a:endCxn id="1778" idx="2"/>
          </p:cNvCxnSpPr>
          <p:nvPr/>
        </p:nvCxnSpPr>
        <p:spPr>
          <a:xfrm>
            <a:off x="314604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5" name=""/>
          <p:cNvSpPr/>
          <p:nvPr/>
        </p:nvSpPr>
        <p:spPr>
          <a:xfrm>
            <a:off x="55022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8320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7" name=""/>
          <p:cNvCxnSpPr>
            <a:stCxn id="1785" idx="6"/>
            <a:endCxn id="1786" idx="2"/>
          </p:cNvCxnSpPr>
          <p:nvPr/>
        </p:nvCxnSpPr>
        <p:spPr>
          <a:xfrm>
            <a:off x="560880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8" name=""/>
          <p:cNvCxnSpPr>
            <a:stCxn id="1785" idx="4"/>
          </p:cNvCxnSpPr>
          <p:nvPr/>
        </p:nvCxnSpPr>
        <p:spPr>
          <a:xfrm>
            <a:off x="55558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9" name=""/>
          <p:cNvCxnSpPr>
            <a:stCxn id="1786" idx="4"/>
          </p:cNvCxnSpPr>
          <p:nvPr/>
        </p:nvCxnSpPr>
        <p:spPr>
          <a:xfrm>
            <a:off x="6036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0" name=""/>
          <p:cNvCxnSpPr>
            <a:stCxn id="1774" idx="6"/>
            <a:endCxn id="1785" idx="2"/>
          </p:cNvCxnSpPr>
          <p:nvPr/>
        </p:nvCxnSpPr>
        <p:spPr>
          <a:xfrm>
            <a:off x="5073120" y="45208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1" name=""/>
          <p:cNvSpPr/>
          <p:nvPr/>
        </p:nvSpPr>
        <p:spPr>
          <a:xfrm>
            <a:off x="25574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04020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5574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04020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5" name=""/>
          <p:cNvCxnSpPr>
            <a:stCxn id="1793" idx="6"/>
            <a:endCxn id="1794" idx="2"/>
          </p:cNvCxnSpPr>
          <p:nvPr/>
        </p:nvCxnSpPr>
        <p:spPr>
          <a:xfrm>
            <a:off x="266364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3" idx="4"/>
            <a:endCxn id="1791" idx="0"/>
          </p:cNvCxnSpPr>
          <p:nvPr/>
        </p:nvCxnSpPr>
        <p:spPr>
          <a:xfrm>
            <a:off x="26110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1" idx="6"/>
            <a:endCxn id="1792" idx="2"/>
          </p:cNvCxnSpPr>
          <p:nvPr/>
        </p:nvCxnSpPr>
        <p:spPr>
          <a:xfrm>
            <a:off x="266364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94" idx="4"/>
            <a:endCxn id="1792" idx="0"/>
          </p:cNvCxnSpPr>
          <p:nvPr/>
        </p:nvCxnSpPr>
        <p:spPr>
          <a:xfrm>
            <a:off x="30920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9" name=""/>
          <p:cNvSpPr/>
          <p:nvPr/>
        </p:nvSpPr>
        <p:spPr>
          <a:xfrm>
            <a:off x="159372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0764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372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0764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3" name=""/>
          <p:cNvCxnSpPr>
            <a:stCxn id="1801" idx="6"/>
            <a:endCxn id="1802" idx="2"/>
          </p:cNvCxnSpPr>
          <p:nvPr/>
        </p:nvCxnSpPr>
        <p:spPr>
          <a:xfrm>
            <a:off x="169992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stCxn id="1801" idx="4"/>
            <a:endCxn id="1799" idx="0"/>
          </p:cNvCxnSpPr>
          <p:nvPr/>
        </p:nvCxnSpPr>
        <p:spPr>
          <a:xfrm>
            <a:off x="16473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5" name=""/>
          <p:cNvCxnSpPr>
            <a:stCxn id="1799" idx="6"/>
            <a:endCxn id="1800" idx="2"/>
          </p:cNvCxnSpPr>
          <p:nvPr/>
        </p:nvCxnSpPr>
        <p:spPr>
          <a:xfrm>
            <a:off x="169992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stCxn id="1802" idx="4"/>
            <a:endCxn id="1800" idx="0"/>
          </p:cNvCxnSpPr>
          <p:nvPr/>
        </p:nvCxnSpPr>
        <p:spPr>
          <a:xfrm>
            <a:off x="212832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stCxn id="1802" idx="6"/>
            <a:endCxn id="1793" idx="2"/>
          </p:cNvCxnSpPr>
          <p:nvPr/>
        </p:nvCxnSpPr>
        <p:spPr>
          <a:xfrm>
            <a:off x="218232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8" name=""/>
          <p:cNvCxnSpPr>
            <a:stCxn id="1800" idx="6"/>
            <a:endCxn id="1791" idx="2"/>
          </p:cNvCxnSpPr>
          <p:nvPr/>
        </p:nvCxnSpPr>
        <p:spPr>
          <a:xfrm>
            <a:off x="218232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9" name=""/>
          <p:cNvSpPr/>
          <p:nvPr/>
        </p:nvSpPr>
        <p:spPr>
          <a:xfrm>
            <a:off x="448452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9672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48452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672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"/>
          <p:cNvCxnSpPr>
            <a:stCxn id="1811" idx="6"/>
            <a:endCxn id="1812" idx="2"/>
          </p:cNvCxnSpPr>
          <p:nvPr/>
        </p:nvCxnSpPr>
        <p:spPr>
          <a:xfrm>
            <a:off x="459216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4" name=""/>
          <p:cNvCxnSpPr>
            <a:stCxn id="1811" idx="4"/>
            <a:endCxn id="1809" idx="0"/>
          </p:cNvCxnSpPr>
          <p:nvPr/>
        </p:nvCxnSpPr>
        <p:spPr>
          <a:xfrm>
            <a:off x="45381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5" name=""/>
          <p:cNvCxnSpPr>
            <a:stCxn id="1809" idx="6"/>
            <a:endCxn id="1810" idx="2"/>
          </p:cNvCxnSpPr>
          <p:nvPr/>
        </p:nvCxnSpPr>
        <p:spPr>
          <a:xfrm>
            <a:off x="459216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6" name=""/>
          <p:cNvCxnSpPr>
            <a:stCxn id="1812" idx="4"/>
            <a:endCxn id="1810" idx="0"/>
          </p:cNvCxnSpPr>
          <p:nvPr/>
        </p:nvCxnSpPr>
        <p:spPr>
          <a:xfrm>
            <a:off x="50194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7" name=""/>
          <p:cNvSpPr/>
          <p:nvPr/>
        </p:nvSpPr>
        <p:spPr>
          <a:xfrm>
            <a:off x="3521160" y="4043520"/>
            <a:ext cx="108000" cy="95040"/>
          </a:xfrm>
          <a:prstGeom prst="ellipse">
            <a:avLst/>
          </a:prstGeom>
          <a:solidFill>
            <a:srgbClr val="ff0000">
              <a:alpha val="99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00356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2116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00356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1" name=""/>
          <p:cNvCxnSpPr>
            <a:stCxn id="1819" idx="6"/>
            <a:endCxn id="1820" idx="2"/>
          </p:cNvCxnSpPr>
          <p:nvPr/>
        </p:nvCxnSpPr>
        <p:spPr>
          <a:xfrm>
            <a:off x="362916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9" idx="4"/>
            <a:endCxn id="1817" idx="0"/>
          </p:cNvCxnSpPr>
          <p:nvPr/>
        </p:nvCxnSpPr>
        <p:spPr>
          <a:xfrm>
            <a:off x="357480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7" idx="6"/>
            <a:endCxn id="1818" idx="2"/>
          </p:cNvCxnSpPr>
          <p:nvPr/>
        </p:nvCxnSpPr>
        <p:spPr>
          <a:xfrm>
            <a:off x="362916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20" idx="4"/>
            <a:endCxn id="1818" idx="0"/>
          </p:cNvCxnSpPr>
          <p:nvPr/>
        </p:nvCxnSpPr>
        <p:spPr>
          <a:xfrm>
            <a:off x="40557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20" idx="6"/>
            <a:endCxn id="1811" idx="2"/>
          </p:cNvCxnSpPr>
          <p:nvPr/>
        </p:nvCxnSpPr>
        <p:spPr>
          <a:xfrm>
            <a:off x="411012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6"/>
            <a:endCxn id="1809" idx="2"/>
          </p:cNvCxnSpPr>
          <p:nvPr/>
        </p:nvCxnSpPr>
        <p:spPr>
          <a:xfrm>
            <a:off x="411012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7" name=""/>
          <p:cNvCxnSpPr>
            <a:stCxn id="1794" idx="6"/>
            <a:endCxn id="1819" idx="2"/>
          </p:cNvCxnSpPr>
          <p:nvPr/>
        </p:nvCxnSpPr>
        <p:spPr>
          <a:xfrm>
            <a:off x="314604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8" name=""/>
          <p:cNvCxnSpPr>
            <a:stCxn id="1792" idx="6"/>
            <a:endCxn id="1817" idx="2"/>
          </p:cNvCxnSpPr>
          <p:nvPr/>
        </p:nvCxnSpPr>
        <p:spPr>
          <a:xfrm>
            <a:off x="314604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9" name=""/>
          <p:cNvSpPr/>
          <p:nvPr/>
        </p:nvSpPr>
        <p:spPr>
          <a:xfrm>
            <a:off x="55022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98320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5022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98320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"/>
          <p:cNvCxnSpPr>
            <a:stCxn id="1831" idx="6"/>
            <a:endCxn id="1832" idx="2"/>
          </p:cNvCxnSpPr>
          <p:nvPr/>
        </p:nvCxnSpPr>
        <p:spPr>
          <a:xfrm>
            <a:off x="560880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4" name=""/>
          <p:cNvCxnSpPr>
            <a:stCxn id="1831" idx="4"/>
            <a:endCxn id="1829" idx="0"/>
          </p:cNvCxnSpPr>
          <p:nvPr/>
        </p:nvCxnSpPr>
        <p:spPr>
          <a:xfrm>
            <a:off x="55558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9" idx="6"/>
            <a:endCxn id="1830" idx="2"/>
          </p:cNvCxnSpPr>
          <p:nvPr/>
        </p:nvCxnSpPr>
        <p:spPr>
          <a:xfrm>
            <a:off x="560880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32" idx="4"/>
            <a:endCxn id="1830" idx="0"/>
          </p:cNvCxnSpPr>
          <p:nvPr/>
        </p:nvCxnSpPr>
        <p:spPr>
          <a:xfrm>
            <a:off x="60368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7" name=""/>
          <p:cNvCxnSpPr>
            <a:stCxn id="1812" idx="6"/>
            <a:endCxn id="1831" idx="2"/>
          </p:cNvCxnSpPr>
          <p:nvPr/>
        </p:nvCxnSpPr>
        <p:spPr>
          <a:xfrm>
            <a:off x="5073120" y="36619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8" name=""/>
          <p:cNvCxnSpPr>
            <a:stCxn id="1810" idx="6"/>
            <a:endCxn id="1829" idx="2"/>
          </p:cNvCxnSpPr>
          <p:nvPr/>
        </p:nvCxnSpPr>
        <p:spPr>
          <a:xfrm>
            <a:off x="5073120" y="40906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9" name=""/>
          <p:cNvCxnSpPr>
            <a:stCxn id="1799" idx="4"/>
            <a:endCxn id="1767" idx="0"/>
          </p:cNvCxnSpPr>
          <p:nvPr/>
        </p:nvCxnSpPr>
        <p:spPr>
          <a:xfrm>
            <a:off x="16473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0" name=""/>
          <p:cNvCxnSpPr>
            <a:stCxn id="1800" idx="4"/>
            <a:endCxn id="1768" idx="0"/>
          </p:cNvCxnSpPr>
          <p:nvPr/>
        </p:nvCxnSpPr>
        <p:spPr>
          <a:xfrm>
            <a:off x="212832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1" name=""/>
          <p:cNvCxnSpPr>
            <a:stCxn id="1791" idx="4"/>
            <a:endCxn id="1762" idx="0"/>
          </p:cNvCxnSpPr>
          <p:nvPr/>
        </p:nvCxnSpPr>
        <p:spPr>
          <a:xfrm>
            <a:off x="26110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2" name=""/>
          <p:cNvCxnSpPr>
            <a:stCxn id="1792" idx="4"/>
            <a:endCxn id="1763" idx="0"/>
          </p:cNvCxnSpPr>
          <p:nvPr/>
        </p:nvCxnSpPr>
        <p:spPr>
          <a:xfrm>
            <a:off x="30920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3" name=""/>
          <p:cNvCxnSpPr>
            <a:stCxn id="1817" idx="4"/>
            <a:endCxn id="1778" idx="0"/>
          </p:cNvCxnSpPr>
          <p:nvPr/>
        </p:nvCxnSpPr>
        <p:spPr>
          <a:xfrm>
            <a:off x="357480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4" name=""/>
          <p:cNvCxnSpPr>
            <a:stCxn id="1818" idx="4"/>
            <a:endCxn id="1779" idx="0"/>
          </p:cNvCxnSpPr>
          <p:nvPr/>
        </p:nvCxnSpPr>
        <p:spPr>
          <a:xfrm>
            <a:off x="40557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5" name=""/>
          <p:cNvCxnSpPr>
            <a:stCxn id="1809" idx="4"/>
            <a:endCxn id="1773" idx="0"/>
          </p:cNvCxnSpPr>
          <p:nvPr/>
        </p:nvCxnSpPr>
        <p:spPr>
          <a:xfrm>
            <a:off x="45381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"/>
          <p:cNvCxnSpPr>
            <a:stCxn id="1810" idx="4"/>
            <a:endCxn id="1774" idx="0"/>
          </p:cNvCxnSpPr>
          <p:nvPr/>
        </p:nvCxnSpPr>
        <p:spPr>
          <a:xfrm>
            <a:off x="50194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7" name=""/>
          <p:cNvCxnSpPr>
            <a:stCxn id="1829" idx="4"/>
            <a:endCxn id="1785" idx="0"/>
          </p:cNvCxnSpPr>
          <p:nvPr/>
        </p:nvCxnSpPr>
        <p:spPr>
          <a:xfrm>
            <a:off x="55558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8" name=""/>
          <p:cNvCxnSpPr>
            <a:stCxn id="1830" idx="4"/>
            <a:endCxn id="1786" idx="0"/>
          </p:cNvCxnSpPr>
          <p:nvPr/>
        </p:nvCxnSpPr>
        <p:spPr>
          <a:xfrm>
            <a:off x="60368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9" name=""/>
          <p:cNvSpPr/>
          <p:nvPr/>
        </p:nvSpPr>
        <p:spPr>
          <a:xfrm>
            <a:off x="25574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04020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574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04020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3" name=""/>
          <p:cNvCxnSpPr>
            <a:stCxn id="1851" idx="6"/>
            <a:endCxn id="1852" idx="2"/>
          </p:cNvCxnSpPr>
          <p:nvPr/>
        </p:nvCxnSpPr>
        <p:spPr>
          <a:xfrm>
            <a:off x="266364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stCxn id="1851" idx="4"/>
            <a:endCxn id="1849" idx="0"/>
          </p:cNvCxnSpPr>
          <p:nvPr/>
        </p:nvCxnSpPr>
        <p:spPr>
          <a:xfrm>
            <a:off x="26110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5" name=""/>
          <p:cNvCxnSpPr>
            <a:stCxn id="1849" idx="6"/>
            <a:endCxn id="1850" idx="2"/>
          </p:cNvCxnSpPr>
          <p:nvPr/>
        </p:nvCxnSpPr>
        <p:spPr>
          <a:xfrm>
            <a:off x="266364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stCxn id="1852" idx="4"/>
            <a:endCxn id="1850" idx="0"/>
          </p:cNvCxnSpPr>
          <p:nvPr/>
        </p:nvCxnSpPr>
        <p:spPr>
          <a:xfrm>
            <a:off x="30920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7" name=""/>
          <p:cNvSpPr/>
          <p:nvPr/>
        </p:nvSpPr>
        <p:spPr>
          <a:xfrm>
            <a:off x="159372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0764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9372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0764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"/>
          <p:cNvCxnSpPr>
            <a:stCxn id="1859" idx="6"/>
            <a:endCxn id="1860" idx="2"/>
          </p:cNvCxnSpPr>
          <p:nvPr/>
        </p:nvCxnSpPr>
        <p:spPr>
          <a:xfrm>
            <a:off x="169992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59" idx="4"/>
            <a:endCxn id="1857" idx="0"/>
          </p:cNvCxnSpPr>
          <p:nvPr/>
        </p:nvCxnSpPr>
        <p:spPr>
          <a:xfrm>
            <a:off x="16473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7" idx="6"/>
            <a:endCxn id="1858" idx="2"/>
          </p:cNvCxnSpPr>
          <p:nvPr/>
        </p:nvCxnSpPr>
        <p:spPr>
          <a:xfrm>
            <a:off x="169992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60" idx="4"/>
            <a:endCxn id="1858" idx="0"/>
          </p:cNvCxnSpPr>
          <p:nvPr/>
        </p:nvCxnSpPr>
        <p:spPr>
          <a:xfrm>
            <a:off x="212832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60" idx="6"/>
            <a:endCxn id="1851" idx="2"/>
          </p:cNvCxnSpPr>
          <p:nvPr/>
        </p:nvCxnSpPr>
        <p:spPr>
          <a:xfrm>
            <a:off x="218232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8" idx="6"/>
            <a:endCxn id="1849" idx="2"/>
          </p:cNvCxnSpPr>
          <p:nvPr/>
        </p:nvCxnSpPr>
        <p:spPr>
          <a:xfrm>
            <a:off x="218232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7" name=""/>
          <p:cNvSpPr/>
          <p:nvPr/>
        </p:nvSpPr>
        <p:spPr>
          <a:xfrm>
            <a:off x="448452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9672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48452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9672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1" name=""/>
          <p:cNvCxnSpPr>
            <a:stCxn id="1869" idx="6"/>
            <a:endCxn id="1870" idx="2"/>
          </p:cNvCxnSpPr>
          <p:nvPr/>
        </p:nvCxnSpPr>
        <p:spPr>
          <a:xfrm>
            <a:off x="459216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2" name=""/>
          <p:cNvCxnSpPr>
            <a:stCxn id="1869" idx="4"/>
            <a:endCxn id="1867" idx="0"/>
          </p:cNvCxnSpPr>
          <p:nvPr/>
        </p:nvCxnSpPr>
        <p:spPr>
          <a:xfrm>
            <a:off x="45381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3" name=""/>
          <p:cNvCxnSpPr>
            <a:stCxn id="1867" idx="6"/>
            <a:endCxn id="1868" idx="2"/>
          </p:cNvCxnSpPr>
          <p:nvPr/>
        </p:nvCxnSpPr>
        <p:spPr>
          <a:xfrm>
            <a:off x="459216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4" name=""/>
          <p:cNvCxnSpPr>
            <a:stCxn id="1870" idx="4"/>
            <a:endCxn id="1868" idx="0"/>
          </p:cNvCxnSpPr>
          <p:nvPr/>
        </p:nvCxnSpPr>
        <p:spPr>
          <a:xfrm>
            <a:off x="50194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5" name=""/>
          <p:cNvSpPr/>
          <p:nvPr/>
        </p:nvSpPr>
        <p:spPr>
          <a:xfrm>
            <a:off x="352116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0356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2116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00356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9" name=""/>
          <p:cNvCxnSpPr>
            <a:stCxn id="1877" idx="6"/>
            <a:endCxn id="1878" idx="2"/>
          </p:cNvCxnSpPr>
          <p:nvPr/>
        </p:nvCxnSpPr>
        <p:spPr>
          <a:xfrm>
            <a:off x="362916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7" idx="4"/>
            <a:endCxn id="1875" idx="0"/>
          </p:cNvCxnSpPr>
          <p:nvPr/>
        </p:nvCxnSpPr>
        <p:spPr>
          <a:xfrm>
            <a:off x="357480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1" name=""/>
          <p:cNvCxnSpPr>
            <a:stCxn id="1875" idx="6"/>
            <a:endCxn id="1876" idx="2"/>
          </p:cNvCxnSpPr>
          <p:nvPr/>
        </p:nvCxnSpPr>
        <p:spPr>
          <a:xfrm>
            <a:off x="362916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8" idx="4"/>
            <a:endCxn id="1876" idx="0"/>
          </p:cNvCxnSpPr>
          <p:nvPr/>
        </p:nvCxnSpPr>
        <p:spPr>
          <a:xfrm>
            <a:off x="40557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"/>
          <p:cNvCxnSpPr>
            <a:stCxn id="1878" idx="6"/>
            <a:endCxn id="1869" idx="2"/>
          </p:cNvCxnSpPr>
          <p:nvPr/>
        </p:nvCxnSpPr>
        <p:spPr>
          <a:xfrm>
            <a:off x="411012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6" idx="6"/>
            <a:endCxn id="1867" idx="2"/>
          </p:cNvCxnSpPr>
          <p:nvPr/>
        </p:nvCxnSpPr>
        <p:spPr>
          <a:xfrm>
            <a:off x="411012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52" idx="6"/>
            <a:endCxn id="1877" idx="2"/>
          </p:cNvCxnSpPr>
          <p:nvPr/>
        </p:nvCxnSpPr>
        <p:spPr>
          <a:xfrm>
            <a:off x="314604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"/>
          <p:cNvCxnSpPr>
            <a:stCxn id="1850" idx="6"/>
            <a:endCxn id="1875" idx="2"/>
          </p:cNvCxnSpPr>
          <p:nvPr/>
        </p:nvCxnSpPr>
        <p:spPr>
          <a:xfrm>
            <a:off x="314604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7" name=""/>
          <p:cNvSpPr/>
          <p:nvPr/>
        </p:nvSpPr>
        <p:spPr>
          <a:xfrm>
            <a:off x="55022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8320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5022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98320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1" name=""/>
          <p:cNvCxnSpPr>
            <a:stCxn id="1889" idx="6"/>
            <a:endCxn id="1890" idx="2"/>
          </p:cNvCxnSpPr>
          <p:nvPr/>
        </p:nvCxnSpPr>
        <p:spPr>
          <a:xfrm>
            <a:off x="560880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9" idx="4"/>
            <a:endCxn id="1887" idx="0"/>
          </p:cNvCxnSpPr>
          <p:nvPr/>
        </p:nvCxnSpPr>
        <p:spPr>
          <a:xfrm>
            <a:off x="55558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7" idx="6"/>
            <a:endCxn id="1888" idx="2"/>
          </p:cNvCxnSpPr>
          <p:nvPr/>
        </p:nvCxnSpPr>
        <p:spPr>
          <a:xfrm>
            <a:off x="560880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4" name=""/>
          <p:cNvCxnSpPr>
            <a:stCxn id="1890" idx="4"/>
            <a:endCxn id="1888" idx="0"/>
          </p:cNvCxnSpPr>
          <p:nvPr/>
        </p:nvCxnSpPr>
        <p:spPr>
          <a:xfrm>
            <a:off x="60368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70" idx="6"/>
            <a:endCxn id="1889" idx="2"/>
          </p:cNvCxnSpPr>
          <p:nvPr/>
        </p:nvCxnSpPr>
        <p:spPr>
          <a:xfrm>
            <a:off x="5073120" y="28015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68" idx="6"/>
            <a:endCxn id="1887" idx="2"/>
          </p:cNvCxnSpPr>
          <p:nvPr/>
        </p:nvCxnSpPr>
        <p:spPr>
          <a:xfrm>
            <a:off x="5073120" y="32317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7" name=""/>
          <p:cNvSpPr/>
          <p:nvPr/>
        </p:nvSpPr>
        <p:spPr>
          <a:xfrm>
            <a:off x="25574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020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5574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020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1" name=""/>
          <p:cNvCxnSpPr>
            <a:stCxn id="1899" idx="6"/>
            <a:endCxn id="1900" idx="2"/>
          </p:cNvCxnSpPr>
          <p:nvPr/>
        </p:nvCxnSpPr>
        <p:spPr>
          <a:xfrm>
            <a:off x="2663640" y="194292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02" name=""/>
          <p:cNvCxnSpPr>
            <a:stCxn id="1899" idx="4"/>
            <a:endCxn id="1897" idx="0"/>
          </p:cNvCxnSpPr>
          <p:nvPr/>
        </p:nvCxnSpPr>
        <p:spPr>
          <a:xfrm>
            <a:off x="26110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7" idx="6"/>
            <a:endCxn id="1898" idx="2"/>
          </p:cNvCxnSpPr>
          <p:nvPr/>
        </p:nvCxnSpPr>
        <p:spPr>
          <a:xfrm>
            <a:off x="266364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900" idx="4"/>
            <a:endCxn id="1898" idx="0"/>
          </p:cNvCxnSpPr>
          <p:nvPr/>
        </p:nvCxnSpPr>
        <p:spPr>
          <a:xfrm>
            <a:off x="30920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5" name=""/>
          <p:cNvSpPr/>
          <p:nvPr/>
        </p:nvSpPr>
        <p:spPr>
          <a:xfrm>
            <a:off x="159372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764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9372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0764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9" name=""/>
          <p:cNvCxnSpPr>
            <a:stCxn id="1907" idx="6"/>
            <a:endCxn id="1908" idx="2"/>
          </p:cNvCxnSpPr>
          <p:nvPr/>
        </p:nvCxnSpPr>
        <p:spPr>
          <a:xfrm>
            <a:off x="1699920" y="1942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0" name=""/>
          <p:cNvCxnSpPr>
            <a:stCxn id="1907" idx="4"/>
            <a:endCxn id="1905" idx="0"/>
          </p:cNvCxnSpPr>
          <p:nvPr/>
        </p:nvCxnSpPr>
        <p:spPr>
          <a:xfrm>
            <a:off x="16473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1" name=""/>
          <p:cNvCxnSpPr>
            <a:stCxn id="1905" idx="6"/>
            <a:endCxn id="1906" idx="2"/>
          </p:cNvCxnSpPr>
          <p:nvPr/>
        </p:nvCxnSpPr>
        <p:spPr>
          <a:xfrm>
            <a:off x="169992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2" name=""/>
          <p:cNvCxnSpPr>
            <a:stCxn id="1908" idx="4"/>
            <a:endCxn id="1906" idx="0"/>
          </p:cNvCxnSpPr>
          <p:nvPr/>
        </p:nvCxnSpPr>
        <p:spPr>
          <a:xfrm>
            <a:off x="212832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3" name=""/>
          <p:cNvCxnSpPr>
            <a:stCxn id="1908" idx="6"/>
            <a:endCxn id="1899" idx="2"/>
          </p:cNvCxnSpPr>
          <p:nvPr/>
        </p:nvCxnSpPr>
        <p:spPr>
          <a:xfrm>
            <a:off x="218232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14" name=""/>
          <p:cNvCxnSpPr>
            <a:stCxn id="1906" idx="6"/>
            <a:endCxn id="1897" idx="2"/>
          </p:cNvCxnSpPr>
          <p:nvPr/>
        </p:nvCxnSpPr>
        <p:spPr>
          <a:xfrm>
            <a:off x="218232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15" name=""/>
          <p:cNvSpPr/>
          <p:nvPr/>
        </p:nvSpPr>
        <p:spPr>
          <a:xfrm>
            <a:off x="448452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9672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48452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9672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9" name=""/>
          <p:cNvCxnSpPr>
            <a:stCxn id="1917" idx="6"/>
            <a:endCxn id="1918" idx="2"/>
          </p:cNvCxnSpPr>
          <p:nvPr/>
        </p:nvCxnSpPr>
        <p:spPr>
          <a:xfrm>
            <a:off x="459216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0" name=""/>
          <p:cNvCxnSpPr>
            <a:stCxn id="1917" idx="4"/>
            <a:endCxn id="1915" idx="0"/>
          </p:cNvCxnSpPr>
          <p:nvPr/>
        </p:nvCxnSpPr>
        <p:spPr>
          <a:xfrm>
            <a:off x="45381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1" name=""/>
          <p:cNvCxnSpPr>
            <a:stCxn id="1915" idx="6"/>
            <a:endCxn id="1916" idx="2"/>
          </p:cNvCxnSpPr>
          <p:nvPr/>
        </p:nvCxnSpPr>
        <p:spPr>
          <a:xfrm>
            <a:off x="459216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2" name=""/>
          <p:cNvCxnSpPr>
            <a:stCxn id="1918" idx="4"/>
            <a:endCxn id="1916" idx="0"/>
          </p:cNvCxnSpPr>
          <p:nvPr/>
        </p:nvCxnSpPr>
        <p:spPr>
          <a:xfrm>
            <a:off x="50194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3" name=""/>
          <p:cNvSpPr/>
          <p:nvPr/>
        </p:nvSpPr>
        <p:spPr>
          <a:xfrm>
            <a:off x="352116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00356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52116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356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"/>
          <p:cNvCxnSpPr>
            <a:stCxn id="1925" idx="6"/>
            <a:endCxn id="1926" idx="2"/>
          </p:cNvCxnSpPr>
          <p:nvPr/>
        </p:nvCxnSpPr>
        <p:spPr>
          <a:xfrm>
            <a:off x="362916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8" name=""/>
          <p:cNvCxnSpPr>
            <a:stCxn id="1925" idx="4"/>
            <a:endCxn id="1923" idx="0"/>
          </p:cNvCxnSpPr>
          <p:nvPr/>
        </p:nvCxnSpPr>
        <p:spPr>
          <a:xfrm>
            <a:off x="357480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9" name=""/>
          <p:cNvCxnSpPr>
            <a:stCxn id="1923" idx="6"/>
            <a:endCxn id="1924" idx="2"/>
          </p:cNvCxnSpPr>
          <p:nvPr/>
        </p:nvCxnSpPr>
        <p:spPr>
          <a:xfrm>
            <a:off x="362916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0" name=""/>
          <p:cNvCxnSpPr>
            <a:stCxn id="1926" idx="4"/>
            <a:endCxn id="1924" idx="0"/>
          </p:cNvCxnSpPr>
          <p:nvPr/>
        </p:nvCxnSpPr>
        <p:spPr>
          <a:xfrm>
            <a:off x="40557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1" name=""/>
          <p:cNvCxnSpPr>
            <a:stCxn id="1926" idx="6"/>
            <a:endCxn id="1917" idx="2"/>
          </p:cNvCxnSpPr>
          <p:nvPr/>
        </p:nvCxnSpPr>
        <p:spPr>
          <a:xfrm>
            <a:off x="411012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2" name=""/>
          <p:cNvCxnSpPr>
            <a:stCxn id="1924" idx="6"/>
            <a:endCxn id="1915" idx="2"/>
          </p:cNvCxnSpPr>
          <p:nvPr/>
        </p:nvCxnSpPr>
        <p:spPr>
          <a:xfrm>
            <a:off x="411012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00" idx="6"/>
            <a:endCxn id="1925" idx="2"/>
          </p:cNvCxnSpPr>
          <p:nvPr/>
        </p:nvCxnSpPr>
        <p:spPr>
          <a:xfrm>
            <a:off x="314604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4" name=""/>
          <p:cNvCxnSpPr>
            <a:stCxn id="1898" idx="6"/>
            <a:endCxn id="1923" idx="2"/>
          </p:cNvCxnSpPr>
          <p:nvPr/>
        </p:nvCxnSpPr>
        <p:spPr>
          <a:xfrm>
            <a:off x="314604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5" name=""/>
          <p:cNvSpPr/>
          <p:nvPr/>
        </p:nvSpPr>
        <p:spPr>
          <a:xfrm>
            <a:off x="55022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98320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22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98320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"/>
          <p:cNvCxnSpPr>
            <a:stCxn id="1937" idx="6"/>
            <a:endCxn id="1938" idx="2"/>
          </p:cNvCxnSpPr>
          <p:nvPr/>
        </p:nvCxnSpPr>
        <p:spPr>
          <a:xfrm>
            <a:off x="5608800" y="1942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37" idx="4"/>
            <a:endCxn id="1935" idx="0"/>
          </p:cNvCxnSpPr>
          <p:nvPr/>
        </p:nvCxnSpPr>
        <p:spPr>
          <a:xfrm>
            <a:off x="55558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5" idx="6"/>
            <a:endCxn id="1936" idx="2"/>
          </p:cNvCxnSpPr>
          <p:nvPr/>
        </p:nvCxnSpPr>
        <p:spPr>
          <a:xfrm>
            <a:off x="560880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38" idx="4"/>
            <a:endCxn id="1936" idx="0"/>
          </p:cNvCxnSpPr>
          <p:nvPr/>
        </p:nvCxnSpPr>
        <p:spPr>
          <a:xfrm>
            <a:off x="60368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18" idx="6"/>
            <a:endCxn id="1937" idx="2"/>
          </p:cNvCxnSpPr>
          <p:nvPr/>
        </p:nvCxnSpPr>
        <p:spPr>
          <a:xfrm>
            <a:off x="5073120" y="1942920"/>
            <a:ext cx="429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44" name=""/>
          <p:cNvCxnSpPr>
            <a:stCxn id="1916" idx="6"/>
            <a:endCxn id="1935" idx="2"/>
          </p:cNvCxnSpPr>
          <p:nvPr/>
        </p:nvCxnSpPr>
        <p:spPr>
          <a:xfrm>
            <a:off x="5073120" y="23731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05" idx="4"/>
            <a:endCxn id="1859" idx="0"/>
          </p:cNvCxnSpPr>
          <p:nvPr/>
        </p:nvCxnSpPr>
        <p:spPr>
          <a:xfrm>
            <a:off x="16473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6" name=""/>
          <p:cNvCxnSpPr>
            <a:stCxn id="1906" idx="4"/>
            <a:endCxn id="1860" idx="0"/>
          </p:cNvCxnSpPr>
          <p:nvPr/>
        </p:nvCxnSpPr>
        <p:spPr>
          <a:xfrm>
            <a:off x="212832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7" name=""/>
          <p:cNvCxnSpPr>
            <a:stCxn id="1897" idx="4"/>
            <a:endCxn id="1851" idx="0"/>
          </p:cNvCxnSpPr>
          <p:nvPr/>
        </p:nvCxnSpPr>
        <p:spPr>
          <a:xfrm>
            <a:off x="26110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8" name=""/>
          <p:cNvCxnSpPr>
            <a:stCxn id="1898" idx="4"/>
            <a:endCxn id="1852" idx="0"/>
          </p:cNvCxnSpPr>
          <p:nvPr/>
        </p:nvCxnSpPr>
        <p:spPr>
          <a:xfrm>
            <a:off x="30920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9" name=""/>
          <p:cNvCxnSpPr>
            <a:stCxn id="1923" idx="4"/>
            <a:endCxn id="1877" idx="0"/>
          </p:cNvCxnSpPr>
          <p:nvPr/>
        </p:nvCxnSpPr>
        <p:spPr>
          <a:xfrm>
            <a:off x="357480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0" name=""/>
          <p:cNvCxnSpPr>
            <a:stCxn id="1924" idx="4"/>
            <a:endCxn id="1878" idx="0"/>
          </p:cNvCxnSpPr>
          <p:nvPr/>
        </p:nvCxnSpPr>
        <p:spPr>
          <a:xfrm>
            <a:off x="40557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1" name=""/>
          <p:cNvCxnSpPr>
            <a:stCxn id="1915" idx="4"/>
            <a:endCxn id="1869" idx="0"/>
          </p:cNvCxnSpPr>
          <p:nvPr/>
        </p:nvCxnSpPr>
        <p:spPr>
          <a:xfrm>
            <a:off x="45381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2" name=""/>
          <p:cNvCxnSpPr>
            <a:stCxn id="1916" idx="4"/>
            <a:endCxn id="1870" idx="0"/>
          </p:cNvCxnSpPr>
          <p:nvPr/>
        </p:nvCxnSpPr>
        <p:spPr>
          <a:xfrm>
            <a:off x="50194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3" name=""/>
          <p:cNvCxnSpPr>
            <a:stCxn id="1935" idx="4"/>
            <a:endCxn id="1889" idx="0"/>
          </p:cNvCxnSpPr>
          <p:nvPr/>
        </p:nvCxnSpPr>
        <p:spPr>
          <a:xfrm>
            <a:off x="55558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4" name=""/>
          <p:cNvCxnSpPr>
            <a:stCxn id="1936" idx="4"/>
            <a:endCxn id="1890" idx="0"/>
          </p:cNvCxnSpPr>
          <p:nvPr/>
        </p:nvCxnSpPr>
        <p:spPr>
          <a:xfrm>
            <a:off x="60368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857" idx="4"/>
            <a:endCxn id="1801" idx="0"/>
          </p:cNvCxnSpPr>
          <p:nvPr/>
        </p:nvCxnSpPr>
        <p:spPr>
          <a:xfrm>
            <a:off x="16473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6" name=""/>
          <p:cNvCxnSpPr>
            <a:stCxn id="1858" idx="4"/>
            <a:endCxn id="1802" idx="0"/>
          </p:cNvCxnSpPr>
          <p:nvPr/>
        </p:nvCxnSpPr>
        <p:spPr>
          <a:xfrm>
            <a:off x="212832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849" idx="4"/>
            <a:endCxn id="1793" idx="0"/>
          </p:cNvCxnSpPr>
          <p:nvPr/>
        </p:nvCxnSpPr>
        <p:spPr>
          <a:xfrm>
            <a:off x="26110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8" name=""/>
          <p:cNvCxnSpPr>
            <a:stCxn id="1850" idx="4"/>
            <a:endCxn id="1794" idx="0"/>
          </p:cNvCxnSpPr>
          <p:nvPr/>
        </p:nvCxnSpPr>
        <p:spPr>
          <a:xfrm>
            <a:off x="30920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875" idx="4"/>
            <a:endCxn id="1819" idx="0"/>
          </p:cNvCxnSpPr>
          <p:nvPr/>
        </p:nvCxnSpPr>
        <p:spPr>
          <a:xfrm>
            <a:off x="357480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0" name=""/>
          <p:cNvCxnSpPr>
            <a:stCxn id="1876" idx="4"/>
            <a:endCxn id="1820" idx="0"/>
          </p:cNvCxnSpPr>
          <p:nvPr/>
        </p:nvCxnSpPr>
        <p:spPr>
          <a:xfrm>
            <a:off x="40557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1" name=""/>
          <p:cNvCxnSpPr>
            <a:stCxn id="1867" idx="4"/>
            <a:endCxn id="1811" idx="0"/>
          </p:cNvCxnSpPr>
          <p:nvPr/>
        </p:nvCxnSpPr>
        <p:spPr>
          <a:xfrm>
            <a:off x="45381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868" idx="4"/>
            <a:endCxn id="1812" idx="0"/>
          </p:cNvCxnSpPr>
          <p:nvPr/>
        </p:nvCxnSpPr>
        <p:spPr>
          <a:xfrm>
            <a:off x="50194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3" name=""/>
          <p:cNvCxnSpPr>
            <a:stCxn id="1887" idx="4"/>
            <a:endCxn id="1831" idx="0"/>
          </p:cNvCxnSpPr>
          <p:nvPr/>
        </p:nvCxnSpPr>
        <p:spPr>
          <a:xfrm>
            <a:off x="55558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4" name=""/>
          <p:cNvCxnSpPr>
            <a:stCxn id="1888" idx="4"/>
            <a:endCxn id="1832" idx="0"/>
          </p:cNvCxnSpPr>
          <p:nvPr/>
        </p:nvCxnSpPr>
        <p:spPr>
          <a:xfrm>
            <a:off x="60368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5" name=""/>
          <p:cNvSpPr/>
          <p:nvPr/>
        </p:nvSpPr>
        <p:spPr>
          <a:xfrm>
            <a:off x="256068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0430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7" name=""/>
          <p:cNvCxnSpPr>
            <a:stCxn id="1965" idx="6"/>
            <a:endCxn id="1966" idx="2"/>
          </p:cNvCxnSpPr>
          <p:nvPr/>
        </p:nvCxnSpPr>
        <p:spPr>
          <a:xfrm>
            <a:off x="266868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8" name=""/>
          <p:cNvSpPr/>
          <p:nvPr/>
        </p:nvSpPr>
        <p:spPr>
          <a:xfrm>
            <a:off x="1596960" y="5762520"/>
            <a:ext cx="108000" cy="95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0797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0" name=""/>
          <p:cNvCxnSpPr>
            <a:stCxn id="1968" idx="6"/>
            <a:endCxn id="1969" idx="2"/>
          </p:cNvCxnSpPr>
          <p:nvPr/>
        </p:nvCxnSpPr>
        <p:spPr>
          <a:xfrm>
            <a:off x="17046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9" idx="6"/>
            <a:endCxn id="1965" idx="2"/>
          </p:cNvCxnSpPr>
          <p:nvPr/>
        </p:nvCxnSpPr>
        <p:spPr>
          <a:xfrm>
            <a:off x="218556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2" name=""/>
          <p:cNvSpPr/>
          <p:nvPr/>
        </p:nvSpPr>
        <p:spPr>
          <a:xfrm>
            <a:off x="448776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9705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4" name=""/>
          <p:cNvCxnSpPr>
            <a:stCxn id="1972" idx="6"/>
            <a:endCxn id="1973" idx="2"/>
          </p:cNvCxnSpPr>
          <p:nvPr/>
        </p:nvCxnSpPr>
        <p:spPr>
          <a:xfrm>
            <a:off x="45954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5" name=""/>
          <p:cNvSpPr/>
          <p:nvPr/>
        </p:nvSpPr>
        <p:spPr>
          <a:xfrm>
            <a:off x="3524400" y="57625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00680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7" name=""/>
          <p:cNvCxnSpPr>
            <a:stCxn id="1975" idx="6"/>
            <a:endCxn id="1976" idx="2"/>
          </p:cNvCxnSpPr>
          <p:nvPr/>
        </p:nvCxnSpPr>
        <p:spPr>
          <a:xfrm>
            <a:off x="36316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6" idx="6"/>
            <a:endCxn id="1972" idx="2"/>
          </p:cNvCxnSpPr>
          <p:nvPr/>
        </p:nvCxnSpPr>
        <p:spPr>
          <a:xfrm>
            <a:off x="411336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6" idx="6"/>
            <a:endCxn id="1975" idx="2"/>
          </p:cNvCxnSpPr>
          <p:nvPr/>
        </p:nvCxnSpPr>
        <p:spPr>
          <a:xfrm>
            <a:off x="31492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0" name=""/>
          <p:cNvSpPr/>
          <p:nvPr/>
        </p:nvSpPr>
        <p:spPr>
          <a:xfrm>
            <a:off x="550548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59878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"/>
          <p:cNvCxnSpPr>
            <a:stCxn id="1980" idx="6"/>
            <a:endCxn id="1981" idx="2"/>
          </p:cNvCxnSpPr>
          <p:nvPr/>
        </p:nvCxnSpPr>
        <p:spPr>
          <a:xfrm>
            <a:off x="5611320" y="58100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73" idx="6"/>
            <a:endCxn id="1980" idx="2"/>
          </p:cNvCxnSpPr>
          <p:nvPr/>
        </p:nvCxnSpPr>
        <p:spPr>
          <a:xfrm>
            <a:off x="5076360" y="58100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256068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430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56068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430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"/>
          <p:cNvCxnSpPr>
            <a:stCxn id="1986" idx="6"/>
            <a:endCxn id="1987" idx="2"/>
          </p:cNvCxnSpPr>
          <p:nvPr/>
        </p:nvCxnSpPr>
        <p:spPr>
          <a:xfrm>
            <a:off x="266868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86" idx="4"/>
            <a:endCxn id="1984" idx="0"/>
          </p:cNvCxnSpPr>
          <p:nvPr/>
        </p:nvCxnSpPr>
        <p:spPr>
          <a:xfrm>
            <a:off x="26143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84" idx="6"/>
            <a:endCxn id="1985" idx="2"/>
          </p:cNvCxnSpPr>
          <p:nvPr/>
        </p:nvCxnSpPr>
        <p:spPr>
          <a:xfrm>
            <a:off x="266868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7" idx="4"/>
            <a:endCxn id="1985" idx="0"/>
          </p:cNvCxnSpPr>
          <p:nvPr/>
        </p:nvCxnSpPr>
        <p:spPr>
          <a:xfrm>
            <a:off x="30952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2" name=""/>
          <p:cNvSpPr/>
          <p:nvPr/>
        </p:nvSpPr>
        <p:spPr>
          <a:xfrm>
            <a:off x="15969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0797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5969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0797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"/>
          <p:cNvCxnSpPr>
            <a:stCxn id="1994" idx="6"/>
            <a:endCxn id="1995" idx="2"/>
          </p:cNvCxnSpPr>
          <p:nvPr/>
        </p:nvCxnSpPr>
        <p:spPr>
          <a:xfrm>
            <a:off x="17046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7" name=""/>
          <p:cNvCxnSpPr>
            <a:stCxn id="1994" idx="4"/>
            <a:endCxn id="1992" idx="0"/>
          </p:cNvCxnSpPr>
          <p:nvPr/>
        </p:nvCxnSpPr>
        <p:spPr>
          <a:xfrm>
            <a:off x="16506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8" name=""/>
          <p:cNvCxnSpPr>
            <a:stCxn id="1992" idx="6"/>
            <a:endCxn id="1993" idx="2"/>
          </p:cNvCxnSpPr>
          <p:nvPr/>
        </p:nvCxnSpPr>
        <p:spPr>
          <a:xfrm>
            <a:off x="17046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9" name=""/>
          <p:cNvCxnSpPr>
            <a:stCxn id="1995" idx="4"/>
            <a:endCxn id="1993" idx="0"/>
          </p:cNvCxnSpPr>
          <p:nvPr/>
        </p:nvCxnSpPr>
        <p:spPr>
          <a:xfrm>
            <a:off x="21315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0" name=""/>
          <p:cNvCxnSpPr>
            <a:stCxn id="1995" idx="6"/>
            <a:endCxn id="1986" idx="2"/>
          </p:cNvCxnSpPr>
          <p:nvPr/>
        </p:nvCxnSpPr>
        <p:spPr>
          <a:xfrm>
            <a:off x="218556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1" name=""/>
          <p:cNvCxnSpPr>
            <a:stCxn id="1993" idx="6"/>
            <a:endCxn id="1984" idx="2"/>
          </p:cNvCxnSpPr>
          <p:nvPr/>
        </p:nvCxnSpPr>
        <p:spPr>
          <a:xfrm>
            <a:off x="218556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2" name=""/>
          <p:cNvSpPr/>
          <p:nvPr/>
        </p:nvSpPr>
        <p:spPr>
          <a:xfrm>
            <a:off x="44877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705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4877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9705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"/>
          <p:cNvCxnSpPr>
            <a:stCxn id="2004" idx="6"/>
            <a:endCxn id="2005" idx="2"/>
          </p:cNvCxnSpPr>
          <p:nvPr/>
        </p:nvCxnSpPr>
        <p:spPr>
          <a:xfrm>
            <a:off x="45954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2004" idx="4"/>
            <a:endCxn id="2002" idx="0"/>
          </p:cNvCxnSpPr>
          <p:nvPr/>
        </p:nvCxnSpPr>
        <p:spPr>
          <a:xfrm>
            <a:off x="45414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8" name=""/>
          <p:cNvCxnSpPr>
            <a:stCxn id="2002" idx="6"/>
            <a:endCxn id="2003" idx="2"/>
          </p:cNvCxnSpPr>
          <p:nvPr/>
        </p:nvCxnSpPr>
        <p:spPr>
          <a:xfrm>
            <a:off x="45954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5" idx="4"/>
            <a:endCxn id="2003" idx="0"/>
          </p:cNvCxnSpPr>
          <p:nvPr/>
        </p:nvCxnSpPr>
        <p:spPr>
          <a:xfrm>
            <a:off x="50241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0" name=""/>
          <p:cNvSpPr/>
          <p:nvPr/>
        </p:nvSpPr>
        <p:spPr>
          <a:xfrm>
            <a:off x="3524400" y="53323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0680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524400" y="490392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0680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12" idx="6"/>
            <a:endCxn id="2013" idx="2"/>
          </p:cNvCxnSpPr>
          <p:nvPr/>
        </p:nvCxnSpPr>
        <p:spPr>
          <a:xfrm>
            <a:off x="36316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12" idx="4"/>
            <a:endCxn id="2010" idx="0"/>
          </p:cNvCxnSpPr>
          <p:nvPr/>
        </p:nvCxnSpPr>
        <p:spPr>
          <a:xfrm>
            <a:off x="357804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10" idx="6"/>
            <a:endCxn id="2011" idx="2"/>
          </p:cNvCxnSpPr>
          <p:nvPr/>
        </p:nvCxnSpPr>
        <p:spPr>
          <a:xfrm>
            <a:off x="36316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13" idx="4"/>
            <a:endCxn id="2011" idx="0"/>
          </p:cNvCxnSpPr>
          <p:nvPr/>
        </p:nvCxnSpPr>
        <p:spPr>
          <a:xfrm>
            <a:off x="40590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13" idx="6"/>
            <a:endCxn id="2004" idx="2"/>
          </p:cNvCxnSpPr>
          <p:nvPr/>
        </p:nvCxnSpPr>
        <p:spPr>
          <a:xfrm>
            <a:off x="411336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11" idx="6"/>
            <a:endCxn id="2002" idx="2"/>
          </p:cNvCxnSpPr>
          <p:nvPr/>
        </p:nvCxnSpPr>
        <p:spPr>
          <a:xfrm>
            <a:off x="411336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1987" idx="6"/>
            <a:endCxn id="2012" idx="2"/>
          </p:cNvCxnSpPr>
          <p:nvPr/>
        </p:nvCxnSpPr>
        <p:spPr>
          <a:xfrm>
            <a:off x="31492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1985" idx="6"/>
            <a:endCxn id="2010" idx="2"/>
          </p:cNvCxnSpPr>
          <p:nvPr/>
        </p:nvCxnSpPr>
        <p:spPr>
          <a:xfrm>
            <a:off x="31492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2" name=""/>
          <p:cNvSpPr/>
          <p:nvPr/>
        </p:nvSpPr>
        <p:spPr>
          <a:xfrm>
            <a:off x="550548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9878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50548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9878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"/>
          <p:cNvCxnSpPr>
            <a:stCxn id="2024" idx="6"/>
            <a:endCxn id="2025" idx="2"/>
          </p:cNvCxnSpPr>
          <p:nvPr/>
        </p:nvCxnSpPr>
        <p:spPr>
          <a:xfrm>
            <a:off x="5611320" y="49510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7" name=""/>
          <p:cNvCxnSpPr>
            <a:stCxn id="2024" idx="4"/>
            <a:endCxn id="2022" idx="0"/>
          </p:cNvCxnSpPr>
          <p:nvPr/>
        </p:nvCxnSpPr>
        <p:spPr>
          <a:xfrm>
            <a:off x="55591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8" name=""/>
          <p:cNvCxnSpPr>
            <a:stCxn id="2022" idx="6"/>
            <a:endCxn id="2023" idx="2"/>
          </p:cNvCxnSpPr>
          <p:nvPr/>
        </p:nvCxnSpPr>
        <p:spPr>
          <a:xfrm>
            <a:off x="5611320" y="53798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9" name=""/>
          <p:cNvCxnSpPr>
            <a:stCxn id="2025" idx="4"/>
            <a:endCxn id="2023" idx="0"/>
          </p:cNvCxnSpPr>
          <p:nvPr/>
        </p:nvCxnSpPr>
        <p:spPr>
          <a:xfrm>
            <a:off x="60400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0" name=""/>
          <p:cNvCxnSpPr>
            <a:stCxn id="2005" idx="6"/>
            <a:endCxn id="2024" idx="2"/>
          </p:cNvCxnSpPr>
          <p:nvPr/>
        </p:nvCxnSpPr>
        <p:spPr>
          <a:xfrm>
            <a:off x="5076360" y="49510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1" name=""/>
          <p:cNvCxnSpPr>
            <a:stCxn id="2003" idx="6"/>
            <a:endCxn id="2022" idx="2"/>
          </p:cNvCxnSpPr>
          <p:nvPr/>
        </p:nvCxnSpPr>
        <p:spPr>
          <a:xfrm>
            <a:off x="5076360" y="53798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2" name=""/>
          <p:cNvCxnSpPr>
            <a:stCxn id="1992" idx="4"/>
            <a:endCxn id="1968" idx="0"/>
          </p:cNvCxnSpPr>
          <p:nvPr/>
        </p:nvCxnSpPr>
        <p:spPr>
          <a:xfrm>
            <a:off x="16506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3" name=""/>
          <p:cNvCxnSpPr>
            <a:stCxn id="1993" idx="4"/>
            <a:endCxn id="1969" idx="0"/>
          </p:cNvCxnSpPr>
          <p:nvPr/>
        </p:nvCxnSpPr>
        <p:spPr>
          <a:xfrm>
            <a:off x="21315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4" name=""/>
          <p:cNvCxnSpPr>
            <a:stCxn id="1984" idx="4"/>
            <a:endCxn id="1965" idx="0"/>
          </p:cNvCxnSpPr>
          <p:nvPr/>
        </p:nvCxnSpPr>
        <p:spPr>
          <a:xfrm>
            <a:off x="26143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5" name=""/>
          <p:cNvCxnSpPr>
            <a:stCxn id="1985" idx="4"/>
            <a:endCxn id="1966" idx="0"/>
          </p:cNvCxnSpPr>
          <p:nvPr/>
        </p:nvCxnSpPr>
        <p:spPr>
          <a:xfrm>
            <a:off x="30952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6" name=""/>
          <p:cNvCxnSpPr>
            <a:stCxn id="2010" idx="4"/>
            <a:endCxn id="1975" idx="0"/>
          </p:cNvCxnSpPr>
          <p:nvPr/>
        </p:nvCxnSpPr>
        <p:spPr>
          <a:xfrm>
            <a:off x="357804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7" name=""/>
          <p:cNvCxnSpPr>
            <a:stCxn id="2011" idx="4"/>
            <a:endCxn id="1976" idx="0"/>
          </p:cNvCxnSpPr>
          <p:nvPr/>
        </p:nvCxnSpPr>
        <p:spPr>
          <a:xfrm>
            <a:off x="40590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8" name=""/>
          <p:cNvCxnSpPr>
            <a:stCxn id="2002" idx="4"/>
            <a:endCxn id="1972" idx="0"/>
          </p:cNvCxnSpPr>
          <p:nvPr/>
        </p:nvCxnSpPr>
        <p:spPr>
          <a:xfrm>
            <a:off x="45414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9" name=""/>
          <p:cNvCxnSpPr>
            <a:stCxn id="2003" idx="4"/>
            <a:endCxn id="1973" idx="0"/>
          </p:cNvCxnSpPr>
          <p:nvPr/>
        </p:nvCxnSpPr>
        <p:spPr>
          <a:xfrm>
            <a:off x="50241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0" name=""/>
          <p:cNvCxnSpPr>
            <a:stCxn id="2022" idx="4"/>
            <a:endCxn id="1980" idx="0"/>
          </p:cNvCxnSpPr>
          <p:nvPr/>
        </p:nvCxnSpPr>
        <p:spPr>
          <a:xfrm>
            <a:off x="55591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1" name=""/>
          <p:cNvCxnSpPr>
            <a:stCxn id="2023" idx="4"/>
            <a:endCxn id="1981" idx="0"/>
          </p:cNvCxnSpPr>
          <p:nvPr/>
        </p:nvCxnSpPr>
        <p:spPr>
          <a:xfrm>
            <a:off x="60400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2" name=""/>
          <p:cNvSpPr/>
          <p:nvPr/>
        </p:nvSpPr>
        <p:spPr>
          <a:xfrm>
            <a:off x="27716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52960" y="57625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536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1812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8148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4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289240" y="57625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8082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7716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252960" y="44737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73536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21812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6990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8148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4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289240" y="44737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082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7716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252960" y="318456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73536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21812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69908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18148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7164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89240" y="318456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08280" y="3184560"/>
            <a:ext cx="160200" cy="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716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52960" y="189540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73536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21812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6990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18148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164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289240" y="189540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8082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1700280" y="42350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1700280" y="38048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700280" y="33746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1700280" y="29458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1700280" y="25156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1700280" y="2037960"/>
            <a:ext cx="0" cy="14292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700280" y="5522760"/>
            <a:ext cx="0" cy="14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1700280" y="50940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700280" y="46638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860040" y="57117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4618080" y="2075040"/>
            <a:ext cx="0" cy="3628440"/>
            <a:chOff x="4618080" y="2075040"/>
            <a:chExt cx="0" cy="3628440"/>
          </a:xfrm>
        </p:grpSpPr>
        <p:sp>
          <p:nvSpPr>
            <p:cNvPr id="2089" name=""/>
            <p:cNvSpPr/>
            <p:nvPr/>
          </p:nvSpPr>
          <p:spPr>
            <a:xfrm flipV="1">
              <a:off x="4618080" y="42721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18080" y="38419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618080" y="34117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4618080" y="29826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4618080" y="25524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18080" y="207504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618080" y="5559120"/>
              <a:ext cx="0" cy="144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618080" y="51303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618080" y="47001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346040" y="2433600"/>
            <a:ext cx="81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625920" y="2472840"/>
            <a:ext cx="0" cy="2769120"/>
            <a:chOff x="3625920" y="2472840"/>
            <a:chExt cx="0" cy="2769120"/>
          </a:xfrm>
        </p:grpSpPr>
        <p:sp>
          <p:nvSpPr>
            <p:cNvPr id="2100" name=""/>
            <p:cNvSpPr/>
            <p:nvPr/>
          </p:nvSpPr>
          <p:spPr>
            <a:xfrm>
              <a:off x="3625920" y="46702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25920" y="42400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625920" y="38095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3625920" y="33811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3625920" y="29509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625920" y="24728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25920" y="50990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616920" y="37479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1773000" y="3298680"/>
            <a:ext cx="4090680" cy="12600"/>
            <a:chOff x="1773000" y="3298680"/>
            <a:chExt cx="4090680" cy="12600"/>
          </a:xfrm>
        </p:grpSpPr>
        <p:grpSp>
          <p:nvGrpSpPr>
            <p:cNvPr id="2109" name=""/>
            <p:cNvGrpSpPr/>
            <p:nvPr/>
          </p:nvGrpSpPr>
          <p:grpSpPr>
            <a:xfrm>
              <a:off x="4743000" y="3309840"/>
              <a:ext cx="1120680" cy="1440"/>
              <a:chOff x="4743000" y="3309840"/>
              <a:chExt cx="1120680" cy="1440"/>
            </a:xfrm>
          </p:grpSpPr>
          <p:sp>
            <p:nvSpPr>
              <p:cNvPr id="2110" name=""/>
              <p:cNvSpPr/>
              <p:nvPr/>
            </p:nvSpPr>
            <p:spPr>
              <a:xfrm>
                <a:off x="4743000" y="33098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23960" y="33098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03480" y="33112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773000" y="3298680"/>
              <a:ext cx="2563920" cy="0"/>
              <a:chOff x="1773000" y="3298680"/>
              <a:chExt cx="2563920" cy="0"/>
            </a:xfrm>
          </p:grpSpPr>
          <p:sp>
            <p:nvSpPr>
              <p:cNvPr id="2114" name=""/>
              <p:cNvSpPr/>
              <p:nvPr/>
            </p:nvSpPr>
            <p:spPr>
              <a:xfrm flipH="1">
                <a:off x="273492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2539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177300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4175640" y="32986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6957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21444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0" name=""/>
          <p:cNvGrpSpPr/>
          <p:nvPr/>
        </p:nvGrpSpPr>
        <p:grpSpPr>
          <a:xfrm>
            <a:off x="1766520" y="2009880"/>
            <a:ext cx="4090680" cy="12600"/>
            <a:chOff x="1766520" y="2009880"/>
            <a:chExt cx="4090680" cy="12600"/>
          </a:xfrm>
        </p:grpSpPr>
        <p:grpSp>
          <p:nvGrpSpPr>
            <p:cNvPr id="2121" name=""/>
            <p:cNvGrpSpPr/>
            <p:nvPr/>
          </p:nvGrpSpPr>
          <p:grpSpPr>
            <a:xfrm>
              <a:off x="4736520" y="2021040"/>
              <a:ext cx="1120680" cy="1440"/>
              <a:chOff x="4736520" y="2021040"/>
              <a:chExt cx="1120680" cy="1440"/>
            </a:xfrm>
          </p:grpSpPr>
          <p:sp>
            <p:nvSpPr>
              <p:cNvPr id="2122" name=""/>
              <p:cNvSpPr/>
              <p:nvPr/>
            </p:nvSpPr>
            <p:spPr>
              <a:xfrm>
                <a:off x="4736520" y="20210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17480" y="20210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97000" y="20224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1766520" y="2009880"/>
              <a:ext cx="2563920" cy="0"/>
              <a:chOff x="1766520" y="2009880"/>
              <a:chExt cx="2563920" cy="0"/>
            </a:xfrm>
          </p:grpSpPr>
          <p:sp>
            <p:nvSpPr>
              <p:cNvPr id="2126" name=""/>
              <p:cNvSpPr/>
              <p:nvPr/>
            </p:nvSpPr>
            <p:spPr>
              <a:xfrm flipH="1">
                <a:off x="272844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22474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176652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4169160" y="20098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36892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320796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2" name=""/>
          <p:cNvSpPr/>
          <p:nvPr/>
        </p:nvSpPr>
        <p:spPr>
          <a:xfrm>
            <a:off x="6550200" y="250668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sify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tially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817-50B1-4DBF-86FD-B4F169201B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andom Network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geographica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les and combs have certain wid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2109960" y="2705040"/>
            <a:ext cx="4926960" cy="3672000"/>
            <a:chOff x="2109960" y="2705040"/>
            <a:chExt cx="4926960" cy="3672000"/>
          </a:xfrm>
        </p:grpSpPr>
        <p:sp>
          <p:nvSpPr>
            <p:cNvPr id="2136" name=""/>
            <p:cNvSpPr/>
            <p:nvPr/>
          </p:nvSpPr>
          <p:spPr>
            <a:xfrm>
              <a:off x="229752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03240" y="3866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66600" y="4006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36248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203560" y="4099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25520" y="4285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427080" y="52149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82520" y="4889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3000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878360" y="51220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8320" y="5261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582520" y="53078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27760" y="5447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50040" y="5261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93040" y="461052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38280" y="4889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132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07360" y="5447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79908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59880" y="4052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9876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51600" y="41922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17560" y="3960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770080" y="35877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19120" y="32162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39840" y="4006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78360" y="36345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23280" y="414576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333480" y="3820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20356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250720" y="5354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330000" y="5354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2776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45560" y="56797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7300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7990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095280" y="40528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644000" y="4843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6628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91480" y="4378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69080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4936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10840" y="4982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87000" y="49359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01000" y="5168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174560" y="57261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7008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31560" y="57261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615000" y="4610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26852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73000" y="5075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330000" y="4657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7560" y="56797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62480" y="3448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94960" y="4564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427080" y="4982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66180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17560" y="433188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0080" y="38203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0704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441760" y="4378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708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67840" y="39600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67300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57904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15000" y="54939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615000" y="3727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380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76480" y="451764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5160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286320" y="3494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766600" y="3727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095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766600" y="44247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86320" y="27979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11520" y="28443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41760" y="28908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3624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66600" y="30301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10996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0952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030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8060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2932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56080" y="29836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95280" y="3309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74240" y="3076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4" name="" descr=""/>
            <p:cNvPicPr/>
            <p:nvPr/>
          </p:nvPicPr>
          <p:blipFill>
            <a:blip r:embed="rId1"/>
            <a:stretch/>
          </p:blipFill>
          <p:spPr>
            <a:xfrm>
              <a:off x="2532240" y="3123360"/>
              <a:ext cx="50904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3141720" y="5074920"/>
              <a:ext cx="56304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675760" y="4005720"/>
              <a:ext cx="56304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"/>
            <p:cNvSpPr/>
            <p:nvPr/>
          </p:nvSpPr>
          <p:spPr>
            <a:xfrm>
              <a:off x="2719800" y="3681000"/>
              <a:ext cx="4644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813760" y="382032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813760" y="4145760"/>
              <a:ext cx="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954520" y="3355200"/>
              <a:ext cx="14076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095280" y="2983320"/>
              <a:ext cx="468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188880" y="3634200"/>
              <a:ext cx="5630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939840" y="3494520"/>
              <a:ext cx="422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03240" y="3541680"/>
              <a:ext cx="3751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019120" y="36810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5441760" y="3634200"/>
              <a:ext cx="28152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10840" y="3634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145560" y="3587400"/>
              <a:ext cx="1875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2766600" y="4517640"/>
              <a:ext cx="4680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19800" y="493596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2673000" y="5307840"/>
              <a:ext cx="46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2813760" y="4796640"/>
              <a:ext cx="1407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42440" y="4750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3517560" y="4657320"/>
              <a:ext cx="3751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87000" y="470340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21720" y="479664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503240" y="484308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4737600" y="479664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07040" y="4796640"/>
              <a:ext cx="3283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629320" y="493596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8760" y="50288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564720" y="4610520"/>
              <a:ext cx="28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5394960" y="3541680"/>
              <a:ext cx="281520" cy="46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 flipV="1">
              <a:off x="5628960" y="4842720"/>
              <a:ext cx="234360" cy="4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3752280" y="5028840"/>
              <a:ext cx="23472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 flipV="1">
              <a:off x="3939840" y="474984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3657960" y="4424400"/>
              <a:ext cx="18756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3611160" y="5400720"/>
              <a:ext cx="93960" cy="2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70080" y="4610520"/>
              <a:ext cx="9360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5723280" y="4285080"/>
              <a:ext cx="4680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770080" y="391320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5817240" y="368100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70760" y="423900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88560" y="354168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85080" y="456408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85080" y="340200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73000" y="2705040"/>
              <a:ext cx="563040" cy="367200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FB3-F210-471B-A52B-14044F1EEC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mple, reliable, and efficient</a:t>
            </a: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 on-demand information disco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E81-BDA2-4F5F-BE04-3712B63C42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Using Prowl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model: Threshol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layer: Simulates Berkeley Motes’ C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radio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45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2,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5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2050920" y="2195640"/>
            <a:ext cx="526572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C74-93FE-497B-9478-872CE715DC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wo Experi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spacing of the comb &amp; needle length given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bustness of the protocol in a really spars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" descr=""/>
          <p:cNvPicPr/>
          <p:nvPr/>
        </p:nvPicPr>
        <p:blipFill>
          <a:blip r:embed="rId1"/>
          <a:stretch/>
        </p:blipFill>
        <p:spPr>
          <a:xfrm>
            <a:off x="3938760" y="2560680"/>
            <a:ext cx="1779480" cy="1341360"/>
          </a:xfrm>
          <a:prstGeom prst="rect">
            <a:avLst/>
          </a:prstGeom>
          <a:ln w="0">
            <a:noFill/>
          </a:ln>
        </p:spPr>
      </p:pic>
      <p:pic>
        <p:nvPicPr>
          <p:cNvPr id="2274" name="" descr=""/>
          <p:cNvPicPr/>
          <p:nvPr/>
        </p:nvPicPr>
        <p:blipFill>
          <a:blip r:embed="rId2"/>
          <a:stretch/>
        </p:blipFill>
        <p:spPr>
          <a:xfrm>
            <a:off x="4216320" y="4705200"/>
            <a:ext cx="189396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A73-E181-4D67-AC5A-09F752816F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1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630360" y="1657440"/>
            <a:ext cx="3882960" cy="340344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2"/>
          <a:stretch/>
        </p:blipFill>
        <p:spPr>
          <a:xfrm>
            <a:off x="4730760" y="1738440"/>
            <a:ext cx="4033800" cy="3317760"/>
          </a:xfrm>
          <a:prstGeom prst="rect">
            <a:avLst/>
          </a:prstGeom>
          <a:ln w="0">
            <a:noFill/>
          </a:ln>
        </p:spPr>
      </p:pic>
      <p:sp>
        <p:nvSpPr>
          <p:cNvPr id="2278" name=""/>
          <p:cNvSpPr/>
          <p:nvPr/>
        </p:nvSpPr>
        <p:spPr>
          <a:xfrm>
            <a:off x="1554480" y="530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086520" y="5316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3"/>
          <a:stretch/>
        </p:blipFill>
        <p:spPr>
          <a:xfrm>
            <a:off x="3471840" y="5767560"/>
            <a:ext cx="3813120" cy="853920"/>
          </a:xfrm>
          <a:prstGeom prst="rect">
            <a:avLst/>
          </a:prstGeom>
          <a:ln w="0">
            <a:noFill/>
          </a:ln>
        </p:spPr>
      </p:pic>
      <p:sp>
        <p:nvSpPr>
          <p:cNvPr id="2281" name=""/>
          <p:cNvSpPr/>
          <p:nvPr/>
        </p:nvSpPr>
        <p:spPr>
          <a:xfrm>
            <a:off x="2584440" y="6037200"/>
            <a:ext cx="110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pti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D16-1739-4CFC-A551-79955A2B37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2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4032000" cy="3305160"/>
          </a:xfrm>
          <a:prstGeom prst="rect">
            <a:avLst/>
          </a:prstGeom>
          <a:ln w="0">
            <a:noFill/>
          </a:ln>
        </p:spPr>
      </p:pic>
      <p:pic>
        <p:nvPicPr>
          <p:cNvPr id="2284" name="" descr=""/>
          <p:cNvPicPr/>
          <p:nvPr/>
        </p:nvPicPr>
        <p:blipFill>
          <a:blip r:embed="rId2"/>
          <a:stretch/>
        </p:blipFill>
        <p:spPr>
          <a:xfrm>
            <a:off x="4724280" y="1852560"/>
            <a:ext cx="4262400" cy="345780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1698480" y="551340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r the CGF wid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Reli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2FA-9C17-4949-AB61-0A6696259F6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granularity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estimate the query and event frequencies to gu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match needle length and inter-spik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ymmetric need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ro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 information of current inter-spike spa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3092400" y="1995480"/>
            <a:ext cx="160668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EA4-F8AF-4D65-8020-8211093C0D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x20 regula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cost: hop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2F4-5422-439A-9559-DB0D31E4D6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ent &amp; Query Frequenci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531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DF4-6019-408E-B28A-AEF57EEA67F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racking the Ideal Inter-Spike Spac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4" name="" descr=""/>
          <p:cNvPicPr/>
          <p:nvPr/>
        </p:nvPicPr>
        <p:blipFill>
          <a:blip r:embed="rId1"/>
          <a:stretch/>
        </p:blipFill>
        <p:spPr>
          <a:xfrm>
            <a:off x="2220840" y="1600200"/>
            <a:ext cx="51595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20C-FFE0-4A54-BF26-88B6D425266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needle length &lt; inter-spike spacing, there is a chance of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success ratio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33% success ratio and 99.64% power consumption compared to the ideal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744-189F-434D-96DC-7B45B9CE4D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o system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0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2301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2310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A9D-E0E8-4A2C-BEBD-FD81EBA187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371600" y="2286000"/>
            <a:ext cx="6629400" cy="3657240"/>
            <a:chOff x="1371600" y="2286000"/>
            <a:chExt cx="6629400" cy="3657240"/>
          </a:xfrm>
        </p:grpSpPr>
        <p:sp>
          <p:nvSpPr>
            <p:cNvPr id="110" name=""/>
            <p:cNvSpPr/>
            <p:nvPr/>
          </p:nvSpPr>
          <p:spPr>
            <a:xfrm>
              <a:off x="162900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080" y="358020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2320" y="37486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076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3861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3320" y="4086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520" y="52120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9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488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8880" y="50994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4120" y="526824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4040" y="53247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9280" y="549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8520" y="52682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080" y="44805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1960" y="4818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452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65640" y="549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856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4800" y="38052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25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7720" y="397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2280" y="369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292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1840" y="279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1520" y="3748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88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7360" y="39175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40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001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4560" y="538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4880" y="538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9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6600" y="57747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380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85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3040" y="38052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7040" y="47617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26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7520" y="4199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148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7212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4760" y="49305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48120" y="5155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3360" y="583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180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444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0280" y="448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224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3800" y="504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4880" y="4536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00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760" y="3073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7000" y="44240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92520" y="49305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1472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2280" y="414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18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2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1080" y="41990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25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5840" y="36928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380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1528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0280" y="55497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028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284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9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132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9560" y="31298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2320" y="34113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30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2320" y="42552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9560" y="2286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0800" y="234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1080" y="23983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0760" y="23983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2320" y="25671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1560" y="24544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9200" y="25671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448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9848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89280" y="2511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23040" y="29048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19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7320" y="26233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950840" y="2736000"/>
              <a:ext cx="69840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787120" y="5042520"/>
              <a:ext cx="772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98120" y="3804480"/>
              <a:ext cx="7722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are the tanks?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F17-2736-4976-906E-A0BFE82240D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on rando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“comb-needle-like” structure without loc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ith data aggreg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models for commun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3127320" y="4740120"/>
            <a:ext cx="293364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14F-E9BD-46B7-9047-0CFB90F9701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523880" y="2286000"/>
            <a:ext cx="6629400" cy="3580920"/>
            <a:chOff x="1523880" y="2286000"/>
            <a:chExt cx="6629400" cy="3580920"/>
          </a:xfrm>
        </p:grpSpPr>
        <p:sp>
          <p:nvSpPr>
            <p:cNvPr id="203" name=""/>
            <p:cNvSpPr/>
            <p:nvPr/>
          </p:nvSpPr>
          <p:spPr>
            <a:xfrm>
              <a:off x="178128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6360" y="35532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4600" y="37184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304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2400" y="38286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85600" y="40489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4800" y="51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7160" y="4985640"/>
              <a:ext cx="1288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21160" y="504072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6400" y="52059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86320" y="52610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1560" y="5426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0800" y="52059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9360" y="44348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4240" y="47653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680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920" y="5426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84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07080" y="37735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48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0000" y="39387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4560" y="36633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632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4120" y="27817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3800" y="37184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211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9640" y="3883680"/>
              <a:ext cx="128880" cy="110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62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524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6840" y="53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97160" y="53164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1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020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312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08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5320" y="37735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99320" y="47102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8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4159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376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24400" y="4985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704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98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400" y="50958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5640" y="57571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408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672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256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8452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6080" y="4985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97160" y="44899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828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3040" y="30571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484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628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6700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54560" y="41040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440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5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3360" y="4159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448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8120" y="366336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608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756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2560" y="54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02560" y="33876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07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52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655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1840" y="31122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460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753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4600" y="42141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1840" y="22860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3080" y="23410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3360" y="23958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3040" y="23958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24600" y="25614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2388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3840" y="24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25614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676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076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1560" y="25063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5320" y="28918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742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09600" y="26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939760" y="2891880"/>
              <a:ext cx="698400" cy="6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681280" y="49302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414120" y="36630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flipH="1">
              <a:off x="3003840" y="3498120"/>
              <a:ext cx="12888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4560" y="355320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17560" y="38836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9000" y="3828600"/>
              <a:ext cx="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1960" y="3718440"/>
              <a:ext cx="25704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098240" y="3167280"/>
              <a:ext cx="38592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6760" y="38286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3040" y="37180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7480" y="3222360"/>
              <a:ext cx="1285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583080" y="327708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905280" y="2946600"/>
              <a:ext cx="640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11600" y="2505960"/>
              <a:ext cx="12852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39760" y="2616480"/>
              <a:ext cx="640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3332880"/>
              <a:ext cx="2570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39760" y="30567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90120" y="426924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1960" y="426924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8240" y="4489920"/>
              <a:ext cx="1929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53480" y="4379400"/>
              <a:ext cx="1929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0160" y="4379400"/>
              <a:ext cx="1285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26040" y="465516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39760" y="454464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7480" y="41594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92280" y="415908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578560" y="3883320"/>
              <a:ext cx="1929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999320" y="33872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33328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64840" y="3332880"/>
              <a:ext cx="3214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9640" y="3498120"/>
              <a:ext cx="644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35960" y="3938760"/>
              <a:ext cx="25704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22240" y="3993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2240" y="4269240"/>
              <a:ext cx="19296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360" y="426924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6720" y="4434840"/>
              <a:ext cx="3214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35960" y="4544640"/>
              <a:ext cx="19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69360" y="2561400"/>
              <a:ext cx="25740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3360" y="460008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50760" y="4875480"/>
              <a:ext cx="3214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0000" y="493056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44800" y="504072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380720" y="4710240"/>
              <a:ext cx="12852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93000" y="4985640"/>
              <a:ext cx="64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4040" y="5316480"/>
              <a:ext cx="12852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17560" y="2506320"/>
              <a:ext cx="2574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167200" y="2671560"/>
              <a:ext cx="128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231640" y="3332880"/>
              <a:ext cx="128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0120" y="50958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5316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20080" y="5591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226400" y="4655160"/>
              <a:ext cx="64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A72-5D98-4901-84DE-CBE0B23C193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143000" y="1981080"/>
            <a:ext cx="6705360" cy="3962160"/>
            <a:chOff x="1143000" y="1981080"/>
            <a:chExt cx="6705360" cy="3962160"/>
          </a:xfrm>
        </p:grpSpPr>
        <p:sp>
          <p:nvSpPr>
            <p:cNvPr id="346" name=""/>
            <p:cNvSpPr/>
            <p:nvPr/>
          </p:nvSpPr>
          <p:spPr>
            <a:xfrm>
              <a:off x="140328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3280" y="338292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4160" y="35658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8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2960" y="36878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9000" y="39315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32320" y="51512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536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4968360"/>
              <a:ext cx="130320" cy="121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83840" y="5029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1440" y="521208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0520" y="5272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2360" y="54558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28440" y="5212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6560" y="43585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7242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99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49640" y="5455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8660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74440" y="36270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76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1400" y="380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6000" y="3504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6052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9320" y="252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1720" y="35658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38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5640" y="3748680"/>
              <a:ext cx="130320" cy="122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0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296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8120" y="53341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5360" y="53341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41720" y="576072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2872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60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9920" y="362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8400" y="4663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4448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3600" y="405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3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18040" y="496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628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724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9920" y="50900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7160" y="58215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080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904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260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3784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4200" y="496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35360" y="441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540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800" y="28342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508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200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812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6000" y="39927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08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960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5040" y="405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3232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27440" y="3504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2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9388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2600" y="551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2600" y="32000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675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084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462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36840" y="28954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416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99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41144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36840" y="19810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5960" y="2041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5040" y="210276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800" y="21027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4160" y="22856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430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40240" y="216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81440" y="22856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72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2568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7760" y="2224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920" y="26514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9876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97480" y="234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2575080" y="2651400"/>
              <a:ext cx="7063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14080" y="49068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090120" y="35046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flipH="1">
              <a:off x="2640240" y="3322080"/>
              <a:ext cx="1303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96000" y="338292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249280" y="374868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1160" y="3687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6280" y="3565800"/>
              <a:ext cx="2599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747240" y="2956320"/>
              <a:ext cx="3906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7200" y="36878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267800" y="356544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2960" y="301716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225960" y="30780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51760" y="2712600"/>
              <a:ext cx="64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355920" y="2224800"/>
              <a:ext cx="12996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75080" y="2346480"/>
              <a:ext cx="648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184480" y="3139200"/>
              <a:ext cx="259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75080" y="28342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965320" y="417564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6280" y="417564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7240" y="4419720"/>
              <a:ext cx="1951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4480" y="4297320"/>
              <a:ext cx="1951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9000" y="4297320"/>
              <a:ext cx="129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5680" y="4602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575080" y="44802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2960" y="405396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4853880" y="405396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244480" y="3748680"/>
              <a:ext cx="1951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658400" y="320004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160" y="3139200"/>
              <a:ext cx="2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080" y="3139200"/>
              <a:ext cx="3250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55640" y="3322080"/>
              <a:ext cx="651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04760" y="3809880"/>
              <a:ext cx="259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95360" y="38707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95360" y="4175640"/>
              <a:ext cx="1951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65040" y="417564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9040" y="4358520"/>
              <a:ext cx="3250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4760" y="448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616560" y="2285280"/>
              <a:ext cx="26028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65040" y="4541400"/>
              <a:ext cx="1303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25680" y="4845960"/>
              <a:ext cx="3250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1400" y="49071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32320" y="502920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067520" y="4662720"/>
              <a:ext cx="1299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64680" y="4968360"/>
              <a:ext cx="6516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62640" y="5334120"/>
              <a:ext cx="1299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249280" y="2224800"/>
              <a:ext cx="2602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793520" y="2407680"/>
              <a:ext cx="1299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858680" y="3139200"/>
              <a:ext cx="1303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0840" y="50900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1760" y="53341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72320" y="56386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876840" y="4602600"/>
              <a:ext cx="651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096000" y="45414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96000" y="4175280"/>
              <a:ext cx="129960" cy="243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91120" y="36270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3225600" y="3322080"/>
              <a:ext cx="6516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29840" y="380988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569920" y="3748680"/>
              <a:ext cx="19512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179320" y="3748680"/>
              <a:ext cx="130320" cy="12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788000" y="399276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332600" y="3931560"/>
              <a:ext cx="3250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942360" y="3627000"/>
              <a:ext cx="195120" cy="1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3356280" y="3443760"/>
              <a:ext cx="259920" cy="6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Cont’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C28-E07C-4BCD-903B-DBD8CAAEB19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219320" y="1981080"/>
            <a:ext cx="6553080" cy="3885840"/>
            <a:chOff x="1219320" y="1981080"/>
            <a:chExt cx="6553080" cy="3885840"/>
          </a:xfrm>
        </p:grpSpPr>
        <p:sp>
          <p:nvSpPr>
            <p:cNvPr id="500" name=""/>
            <p:cNvSpPr/>
            <p:nvPr/>
          </p:nvSpPr>
          <p:spPr>
            <a:xfrm>
              <a:off x="14738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4000" y="33559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09600" y="35352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7284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46400" y="3655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6400" y="38941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50900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368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3160" y="4910760"/>
              <a:ext cx="127440" cy="119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72680" y="497016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45920" y="51498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040" y="5209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54960" y="5388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7720" y="51498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7336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4640" y="4671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8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00760" y="5388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96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54280" y="3595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724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63520" y="37746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7680" y="3475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54480" y="3116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63480" y="25189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0440" y="35352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7268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17840" y="37148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512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464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10120" y="5269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73160" y="5269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96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90600" y="5687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252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9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55280" y="3595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54800" y="46116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27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920" y="40140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1852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4960" y="4910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72360" y="4790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416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5440" y="50302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18320" y="5747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8156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0932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672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4576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2520" y="4910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73160" y="4372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4608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72840" y="28177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2880" y="42526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72200" y="4790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044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27680" y="3953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8156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1800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36240" y="40140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722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63000" y="34758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252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544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6720" y="54489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26720" y="31766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884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4480" y="4193280"/>
              <a:ext cx="12708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9980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1400" y="2877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9600" y="3176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528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9600" y="40734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1400" y="1981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760" y="2040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36240" y="21002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2840" y="21002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9600" y="2279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82360" y="21603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36080" y="2279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124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00280" y="2220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55280" y="26384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64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35920" y="23396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2619000" y="2638440"/>
              <a:ext cx="6901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64120" y="491040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17480" y="365472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 flipV="1">
              <a:off x="2936880" y="4611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619000" y="44323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000600" y="413352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109240" y="449208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36680" y="425268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063960" y="4312440"/>
              <a:ext cx="5090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63960" y="5030280"/>
              <a:ext cx="3182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36720" y="526932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46713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91400" y="365472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063600" y="323640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8480" y="35953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745720" y="3714840"/>
              <a:ext cx="31788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4160" y="4372560"/>
              <a:ext cx="1908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9600" y="5090040"/>
              <a:ext cx="12744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8200" y="5628240"/>
              <a:ext cx="2541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46240" y="5508360"/>
              <a:ext cx="2541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791360" y="467136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1410120" y="455148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254760" y="305676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573360" y="26985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8320" y="5508360"/>
              <a:ext cx="6372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791360" y="407340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863320" y="41335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45280" y="4372560"/>
              <a:ext cx="1270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799960" y="4252680"/>
              <a:ext cx="1908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990400" y="443232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3520" y="48510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135920" y="46116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199640" y="44323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481720" y="3714840"/>
              <a:ext cx="25416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117840" y="383436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181560" y="3475440"/>
              <a:ext cx="6372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181560" y="32364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54480" y="26985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609160" y="3116520"/>
              <a:ext cx="3816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2360" y="3176640"/>
              <a:ext cx="1270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690600" y="3416040"/>
              <a:ext cx="2545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2200" y="341604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6720" y="365508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00120" y="31168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4464000" y="2937240"/>
              <a:ext cx="3816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654440" y="3176640"/>
              <a:ext cx="3178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00120" y="3714840"/>
              <a:ext cx="190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845600" y="4073400"/>
              <a:ext cx="19080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4336560" y="3953880"/>
              <a:ext cx="38160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736240" y="4910760"/>
              <a:ext cx="1274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353920" y="437256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sh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FCE-2813-48CC-A389-54A536FB4F1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143000" y="1981080"/>
            <a:ext cx="6629040" cy="4496040"/>
            <a:chOff x="1143000" y="1981080"/>
            <a:chExt cx="6629040" cy="4496040"/>
          </a:xfrm>
        </p:grpSpPr>
        <p:sp>
          <p:nvSpPr>
            <p:cNvPr id="641" name=""/>
            <p:cNvSpPr/>
            <p:nvPr/>
          </p:nvSpPr>
          <p:spPr>
            <a:xfrm>
              <a:off x="139536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2840" y="3403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6800" y="35744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348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000" y="36882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0920" y="39157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1240" y="5054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15080" y="46558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8424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67920" y="494028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6320" y="511092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5080" y="5168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7760" y="53388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26200" y="51109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42040" y="4314240"/>
              <a:ext cx="1263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84720" y="46558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252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16160" y="53388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1568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46640" y="36313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0952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46520" y="38019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35175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67440" y="306216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57280" y="2606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05040" y="3574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920" y="3119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04440" y="3745080"/>
              <a:ext cx="1263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5240" y="33469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6900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32360" y="5225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4240" y="5225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776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72520" y="56232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044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156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68880" y="36313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2200" y="4599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064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1720" y="40298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556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1968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56800" y="476964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68400" y="47127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6000" y="4997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0760" y="56804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67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04920" y="56804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03960" y="43142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471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00440" y="4883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4240" y="4371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36960" y="562320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3480" y="2891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2573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51240" y="47696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673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36960" y="39729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7440" y="334692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100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25360" y="40298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40960" y="35175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044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74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5395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03960" y="32328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886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1440" y="420048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4652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61880" y="2948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6800" y="32328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6888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6800" y="408672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1880" y="2094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62960" y="21517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360" y="2208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734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6800" y="2379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688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0160" y="2379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9476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80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9480" y="23223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68880" y="2720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8472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4600" y="2436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711080" y="2493000"/>
              <a:ext cx="68508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2531520" y="4883040"/>
              <a:ext cx="7574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941080" y="3573720"/>
              <a:ext cx="75744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1963800" y="31762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89800" y="33469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89800" y="37450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279160" y="2777760"/>
              <a:ext cx="1893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468880" y="2322360"/>
              <a:ext cx="63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594880" y="3119040"/>
              <a:ext cx="757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605040" y="2948400"/>
              <a:ext cx="56808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62840" y="3005280"/>
              <a:ext cx="504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280" y="317628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25360" y="3119040"/>
              <a:ext cx="378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56800" y="311904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6572520" y="3062160"/>
              <a:ext cx="252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026440" y="4200480"/>
              <a:ext cx="630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63800" y="47127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900080" y="5168160"/>
              <a:ext cx="6300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089800" y="4541760"/>
              <a:ext cx="1893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1880" y="448524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036960" y="4371120"/>
              <a:ext cx="504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8400" y="4428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84120" y="454212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2840" y="4599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678560" y="4541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0000" y="4542120"/>
              <a:ext cx="441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8080" y="4712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9520" y="4826520"/>
              <a:ext cx="4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100320" y="4314240"/>
              <a:ext cx="37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562720" y="3005280"/>
              <a:ext cx="378720" cy="5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878080" y="4599000"/>
              <a:ext cx="31536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352680" y="4826520"/>
              <a:ext cx="31572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3604680" y="448524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3225960" y="4086720"/>
              <a:ext cx="25236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162600" y="5281920"/>
              <a:ext cx="12636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67440" y="4314240"/>
              <a:ext cx="12600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004080" y="3915720"/>
              <a:ext cx="6300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067440" y="346068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130800" y="31759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3600" y="385920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8720" y="300528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47720" y="425736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47720" y="283464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00440" y="1981080"/>
              <a:ext cx="757440" cy="449604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Comb-Needle Structur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DE8-3733-4AEC-A45B-319C1117BF4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Event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Querie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Global discovery-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One sh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Network: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ighters query information in the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il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nodes know thei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01E-E03A-4D5B-B2EE-06D8037502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n Event Happe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146320" y="1935000"/>
            <a:ext cx="4597200" cy="3949560"/>
            <a:chOff x="2146320" y="1935000"/>
            <a:chExt cx="4597200" cy="3949560"/>
          </a:xfrm>
        </p:grpSpPr>
        <p:sp>
          <p:nvSpPr>
            <p:cNvPr id="779" name=""/>
            <p:cNvSpPr/>
            <p:nvPr/>
          </p:nvSpPr>
          <p:spPr>
            <a:xfrm>
              <a:off x="313056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230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79" idx="6"/>
              <a:endCxn id="780" idx="2"/>
            </p:cNvCxnSpPr>
            <p:nvPr/>
          </p:nvCxnSpPr>
          <p:spPr>
            <a:xfrm>
              <a:off x="32396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2" name=""/>
            <p:cNvCxnSpPr>
              <a:stCxn id="779" idx="4"/>
            </p:cNvCxnSpPr>
            <p:nvPr/>
          </p:nvCxnSpPr>
          <p:spPr>
            <a:xfrm>
              <a:off x="31860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80" idx="4"/>
            </p:cNvCxnSpPr>
            <p:nvPr/>
          </p:nvCxnSpPr>
          <p:spPr>
            <a:xfrm>
              <a:off x="36781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214632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384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"/>
            <p:cNvCxnSpPr>
              <a:stCxn id="784" idx="6"/>
              <a:endCxn id="785" idx="2"/>
            </p:cNvCxnSpPr>
            <p:nvPr/>
          </p:nvCxnSpPr>
          <p:spPr>
            <a:xfrm>
              <a:off x="22550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7" name=""/>
            <p:cNvCxnSpPr>
              <a:stCxn id="784" idx="4"/>
            </p:cNvCxnSpPr>
            <p:nvPr/>
          </p:nvCxnSpPr>
          <p:spPr>
            <a:xfrm>
              <a:off x="22014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8" name=""/>
            <p:cNvCxnSpPr>
              <a:stCxn id="785" idx="4"/>
            </p:cNvCxnSpPr>
            <p:nvPr/>
          </p:nvCxnSpPr>
          <p:spPr>
            <a:xfrm>
              <a:off x="26935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5" idx="6"/>
              <a:endCxn id="779" idx="2"/>
            </p:cNvCxnSpPr>
            <p:nvPr/>
          </p:nvCxnSpPr>
          <p:spPr>
            <a:xfrm>
              <a:off x="274752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50994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918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"/>
            <p:cNvCxnSpPr>
              <a:stCxn id="790" idx="6"/>
              <a:endCxn id="791" idx="2"/>
            </p:cNvCxnSpPr>
            <p:nvPr/>
          </p:nvCxnSpPr>
          <p:spPr>
            <a:xfrm>
              <a:off x="52092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90" idx="4"/>
            </p:cNvCxnSpPr>
            <p:nvPr/>
          </p:nvCxnSpPr>
          <p:spPr>
            <a:xfrm>
              <a:off x="51548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91" idx="4"/>
            </p:cNvCxnSpPr>
            <p:nvPr/>
          </p:nvCxnSpPr>
          <p:spPr>
            <a:xfrm>
              <a:off x="56469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41148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72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7" name=""/>
            <p:cNvCxnSpPr>
              <a:stCxn id="795" idx="6"/>
              <a:endCxn id="796" idx="2"/>
            </p:cNvCxnSpPr>
            <p:nvPr/>
          </p:nvCxnSpPr>
          <p:spPr>
            <a:xfrm>
              <a:off x="42246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8" name=""/>
            <p:cNvCxnSpPr>
              <a:stCxn id="795" idx="4"/>
            </p:cNvCxnSpPr>
            <p:nvPr/>
          </p:nvCxnSpPr>
          <p:spPr>
            <a:xfrm>
              <a:off x="41706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9" name=""/>
            <p:cNvCxnSpPr>
              <a:stCxn id="796" idx="4"/>
            </p:cNvCxnSpPr>
            <p:nvPr/>
          </p:nvCxnSpPr>
          <p:spPr>
            <a:xfrm>
              <a:off x="46627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0" name=""/>
            <p:cNvCxnSpPr>
              <a:stCxn id="796" idx="6"/>
              <a:endCxn id="790" idx="2"/>
            </p:cNvCxnSpPr>
            <p:nvPr/>
          </p:nvCxnSpPr>
          <p:spPr>
            <a:xfrm>
              <a:off x="47167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"/>
            <p:cNvCxnSpPr>
              <a:stCxn id="780" idx="6"/>
              <a:endCxn id="795" idx="2"/>
            </p:cNvCxnSpPr>
            <p:nvPr/>
          </p:nvCxnSpPr>
          <p:spPr>
            <a:xfrm>
              <a:off x="37321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2" name=""/>
            <p:cNvSpPr/>
            <p:nvPr/>
          </p:nvSpPr>
          <p:spPr>
            <a:xfrm>
              <a:off x="61380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304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"/>
            <p:cNvCxnSpPr>
              <a:stCxn id="802" idx="6"/>
              <a:endCxn id="803" idx="2"/>
            </p:cNvCxnSpPr>
            <p:nvPr/>
          </p:nvCxnSpPr>
          <p:spPr>
            <a:xfrm>
              <a:off x="62478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stCxn id="802" idx="4"/>
            </p:cNvCxnSpPr>
            <p:nvPr/>
          </p:nvCxnSpPr>
          <p:spPr>
            <a:xfrm>
              <a:off x="61934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6" name=""/>
            <p:cNvCxnSpPr>
              <a:stCxn id="803" idx="4"/>
            </p:cNvCxnSpPr>
            <p:nvPr/>
          </p:nvCxnSpPr>
          <p:spPr>
            <a:xfrm>
              <a:off x="66855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7" name=""/>
            <p:cNvCxnSpPr>
              <a:stCxn id="791" idx="6"/>
              <a:endCxn id="802" idx="2"/>
            </p:cNvCxnSpPr>
            <p:nvPr/>
          </p:nvCxnSpPr>
          <p:spPr>
            <a:xfrm>
              <a:off x="5701320" y="45518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8" name=""/>
            <p:cNvSpPr/>
            <p:nvPr/>
          </p:nvSpPr>
          <p:spPr>
            <a:xfrm>
              <a:off x="313056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230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056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230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2" name=""/>
            <p:cNvCxnSpPr>
              <a:stCxn id="810" idx="6"/>
              <a:endCxn id="811" idx="2"/>
            </p:cNvCxnSpPr>
            <p:nvPr/>
          </p:nvCxnSpPr>
          <p:spPr>
            <a:xfrm>
              <a:off x="32396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3" name=""/>
            <p:cNvCxnSpPr>
              <a:stCxn id="810" idx="4"/>
              <a:endCxn id="808" idx="0"/>
            </p:cNvCxnSpPr>
            <p:nvPr/>
          </p:nvCxnSpPr>
          <p:spPr>
            <a:xfrm>
              <a:off x="31842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4" name=""/>
            <p:cNvCxnSpPr>
              <a:stCxn id="808" idx="6"/>
              <a:endCxn id="809" idx="2"/>
            </p:cNvCxnSpPr>
            <p:nvPr/>
          </p:nvCxnSpPr>
          <p:spPr>
            <a:xfrm>
              <a:off x="32396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"/>
            <p:cNvCxnSpPr>
              <a:stCxn id="811" idx="4"/>
              <a:endCxn id="809" idx="0"/>
            </p:cNvCxnSpPr>
            <p:nvPr/>
          </p:nvCxnSpPr>
          <p:spPr>
            <a:xfrm>
              <a:off x="36763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6" name=""/>
            <p:cNvSpPr/>
            <p:nvPr/>
          </p:nvSpPr>
          <p:spPr>
            <a:xfrm>
              <a:off x="214632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84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632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84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" name=""/>
            <p:cNvCxnSpPr>
              <a:stCxn id="818" idx="6"/>
              <a:endCxn id="819" idx="2"/>
            </p:cNvCxnSpPr>
            <p:nvPr/>
          </p:nvCxnSpPr>
          <p:spPr>
            <a:xfrm>
              <a:off x="22550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8" idx="4"/>
              <a:endCxn id="816" idx="0"/>
            </p:cNvCxnSpPr>
            <p:nvPr/>
          </p:nvCxnSpPr>
          <p:spPr>
            <a:xfrm>
              <a:off x="21996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6" idx="6"/>
              <a:endCxn id="817" idx="2"/>
            </p:cNvCxnSpPr>
            <p:nvPr/>
          </p:nvCxnSpPr>
          <p:spPr>
            <a:xfrm>
              <a:off x="22550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4"/>
              <a:endCxn id="817" idx="0"/>
            </p:cNvCxnSpPr>
            <p:nvPr/>
          </p:nvCxnSpPr>
          <p:spPr>
            <a:xfrm>
              <a:off x="26917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819" idx="6"/>
              <a:endCxn id="810" idx="2"/>
            </p:cNvCxnSpPr>
            <p:nvPr/>
          </p:nvCxnSpPr>
          <p:spPr>
            <a:xfrm>
              <a:off x="274752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817" idx="6"/>
              <a:endCxn id="808" idx="2"/>
            </p:cNvCxnSpPr>
            <p:nvPr/>
          </p:nvCxnSpPr>
          <p:spPr>
            <a:xfrm>
              <a:off x="274752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6" name=""/>
            <p:cNvSpPr/>
            <p:nvPr/>
          </p:nvSpPr>
          <p:spPr>
            <a:xfrm>
              <a:off x="50994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918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994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918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"/>
            <p:cNvCxnSpPr>
              <a:stCxn id="828" idx="6"/>
              <a:endCxn id="829" idx="2"/>
            </p:cNvCxnSpPr>
            <p:nvPr/>
          </p:nvCxnSpPr>
          <p:spPr>
            <a:xfrm>
              <a:off x="52092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8" idx="4"/>
              <a:endCxn id="826" idx="0"/>
            </p:cNvCxnSpPr>
            <p:nvPr/>
          </p:nvCxnSpPr>
          <p:spPr>
            <a:xfrm>
              <a:off x="51530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6" idx="6"/>
              <a:endCxn id="827" idx="2"/>
            </p:cNvCxnSpPr>
            <p:nvPr/>
          </p:nvCxnSpPr>
          <p:spPr>
            <a:xfrm>
              <a:off x="52092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9" idx="4"/>
              <a:endCxn id="827" idx="0"/>
            </p:cNvCxnSpPr>
            <p:nvPr/>
          </p:nvCxnSpPr>
          <p:spPr>
            <a:xfrm>
              <a:off x="56455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4114800" y="4075920"/>
              <a:ext cx="109440" cy="9468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072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072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6" idx="6"/>
              <a:endCxn id="837" idx="2"/>
            </p:cNvCxnSpPr>
            <p:nvPr/>
          </p:nvCxnSpPr>
          <p:spPr>
            <a:xfrm>
              <a:off x="42246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836" idx="4"/>
              <a:endCxn id="834" idx="0"/>
            </p:cNvCxnSpPr>
            <p:nvPr/>
          </p:nvCxnSpPr>
          <p:spPr>
            <a:xfrm>
              <a:off x="4168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stCxn id="834" idx="6"/>
              <a:endCxn id="835" idx="2"/>
            </p:cNvCxnSpPr>
            <p:nvPr/>
          </p:nvCxnSpPr>
          <p:spPr>
            <a:xfrm>
              <a:off x="42246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1" name=""/>
            <p:cNvCxnSpPr>
              <a:stCxn id="837" idx="4"/>
              <a:endCxn id="835" idx="0"/>
            </p:cNvCxnSpPr>
            <p:nvPr/>
          </p:nvCxnSpPr>
          <p:spPr>
            <a:xfrm>
              <a:off x="46609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37" idx="6"/>
              <a:endCxn id="828" idx="2"/>
            </p:cNvCxnSpPr>
            <p:nvPr/>
          </p:nvCxnSpPr>
          <p:spPr>
            <a:xfrm>
              <a:off x="47167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"/>
            <p:cNvCxnSpPr>
              <a:stCxn id="835" idx="6"/>
              <a:endCxn id="826" idx="2"/>
            </p:cNvCxnSpPr>
            <p:nvPr/>
          </p:nvCxnSpPr>
          <p:spPr>
            <a:xfrm>
              <a:off x="47167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4" name=""/>
            <p:cNvCxnSpPr>
              <a:stCxn id="811" idx="6"/>
              <a:endCxn id="836" idx="2"/>
            </p:cNvCxnSpPr>
            <p:nvPr/>
          </p:nvCxnSpPr>
          <p:spPr>
            <a:xfrm>
              <a:off x="37321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09" idx="6"/>
              <a:endCxn id="834" idx="2"/>
            </p:cNvCxnSpPr>
            <p:nvPr/>
          </p:nvCxnSpPr>
          <p:spPr>
            <a:xfrm>
              <a:off x="37321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61380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304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380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304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0" name=""/>
            <p:cNvCxnSpPr>
              <a:stCxn id="848" idx="6"/>
              <a:endCxn id="849" idx="2"/>
            </p:cNvCxnSpPr>
            <p:nvPr/>
          </p:nvCxnSpPr>
          <p:spPr>
            <a:xfrm>
              <a:off x="62478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848" idx="4"/>
              <a:endCxn id="846" idx="0"/>
            </p:cNvCxnSpPr>
            <p:nvPr/>
          </p:nvCxnSpPr>
          <p:spPr>
            <a:xfrm>
              <a:off x="6193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>
              <a:stCxn id="846" idx="6"/>
              <a:endCxn id="847" idx="2"/>
            </p:cNvCxnSpPr>
            <p:nvPr/>
          </p:nvCxnSpPr>
          <p:spPr>
            <a:xfrm>
              <a:off x="62478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49" idx="4"/>
              <a:endCxn id="847" idx="0"/>
            </p:cNvCxnSpPr>
            <p:nvPr/>
          </p:nvCxnSpPr>
          <p:spPr>
            <a:xfrm>
              <a:off x="668556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29" idx="6"/>
              <a:endCxn id="848" idx="2"/>
            </p:cNvCxnSpPr>
            <p:nvPr/>
          </p:nvCxnSpPr>
          <p:spPr>
            <a:xfrm>
              <a:off x="5701320" y="36961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27" idx="6"/>
              <a:endCxn id="846" idx="2"/>
            </p:cNvCxnSpPr>
            <p:nvPr/>
          </p:nvCxnSpPr>
          <p:spPr>
            <a:xfrm>
              <a:off x="5701320" y="41227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16" idx="4"/>
              <a:endCxn id="784" idx="0"/>
            </p:cNvCxnSpPr>
            <p:nvPr/>
          </p:nvCxnSpPr>
          <p:spPr>
            <a:xfrm>
              <a:off x="21996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7" name=""/>
            <p:cNvCxnSpPr>
              <a:stCxn id="817" idx="4"/>
              <a:endCxn id="785" idx="0"/>
            </p:cNvCxnSpPr>
            <p:nvPr/>
          </p:nvCxnSpPr>
          <p:spPr>
            <a:xfrm>
              <a:off x="26917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8" name=""/>
            <p:cNvCxnSpPr>
              <a:stCxn id="808" idx="4"/>
              <a:endCxn id="779" idx="0"/>
            </p:cNvCxnSpPr>
            <p:nvPr/>
          </p:nvCxnSpPr>
          <p:spPr>
            <a:xfrm>
              <a:off x="31842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9" name=""/>
            <p:cNvCxnSpPr>
              <a:stCxn id="809" idx="4"/>
              <a:endCxn id="780" idx="0"/>
            </p:cNvCxnSpPr>
            <p:nvPr/>
          </p:nvCxnSpPr>
          <p:spPr>
            <a:xfrm>
              <a:off x="36763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0" name=""/>
            <p:cNvCxnSpPr>
              <a:stCxn id="834" idx="4"/>
              <a:endCxn id="795" idx="0"/>
            </p:cNvCxnSpPr>
            <p:nvPr/>
          </p:nvCxnSpPr>
          <p:spPr>
            <a:xfrm>
              <a:off x="4168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1" name=""/>
            <p:cNvCxnSpPr>
              <a:stCxn id="835" idx="4"/>
              <a:endCxn id="796" idx="0"/>
            </p:cNvCxnSpPr>
            <p:nvPr/>
          </p:nvCxnSpPr>
          <p:spPr>
            <a:xfrm>
              <a:off x="46609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2" name=""/>
            <p:cNvCxnSpPr>
              <a:stCxn id="826" idx="4"/>
              <a:endCxn id="790" idx="0"/>
            </p:cNvCxnSpPr>
            <p:nvPr/>
          </p:nvCxnSpPr>
          <p:spPr>
            <a:xfrm>
              <a:off x="51530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3" name=""/>
            <p:cNvCxnSpPr>
              <a:stCxn id="827" idx="4"/>
              <a:endCxn id="791" idx="0"/>
            </p:cNvCxnSpPr>
            <p:nvPr/>
          </p:nvCxnSpPr>
          <p:spPr>
            <a:xfrm>
              <a:off x="56455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46" idx="4"/>
              <a:endCxn id="802" idx="0"/>
            </p:cNvCxnSpPr>
            <p:nvPr/>
          </p:nvCxnSpPr>
          <p:spPr>
            <a:xfrm>
              <a:off x="6193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47" idx="4"/>
              <a:endCxn id="803" idx="0"/>
            </p:cNvCxnSpPr>
            <p:nvPr/>
          </p:nvCxnSpPr>
          <p:spPr>
            <a:xfrm>
              <a:off x="668556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6" name=""/>
            <p:cNvSpPr/>
            <p:nvPr/>
          </p:nvSpPr>
          <p:spPr>
            <a:xfrm>
              <a:off x="313056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230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3056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230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"/>
            <p:cNvCxnSpPr>
              <a:stCxn id="868" idx="6"/>
              <a:endCxn id="869" idx="2"/>
            </p:cNvCxnSpPr>
            <p:nvPr/>
          </p:nvCxnSpPr>
          <p:spPr>
            <a:xfrm>
              <a:off x="32396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1" name=""/>
            <p:cNvCxnSpPr>
              <a:stCxn id="868" idx="4"/>
              <a:endCxn id="866" idx="0"/>
            </p:cNvCxnSpPr>
            <p:nvPr/>
          </p:nvCxnSpPr>
          <p:spPr>
            <a:xfrm>
              <a:off x="31842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2" name=""/>
            <p:cNvCxnSpPr>
              <a:stCxn id="866" idx="6"/>
              <a:endCxn id="867" idx="2"/>
            </p:cNvCxnSpPr>
            <p:nvPr/>
          </p:nvCxnSpPr>
          <p:spPr>
            <a:xfrm>
              <a:off x="32396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3" name=""/>
            <p:cNvCxnSpPr>
              <a:stCxn id="869" idx="4"/>
              <a:endCxn id="867" idx="0"/>
            </p:cNvCxnSpPr>
            <p:nvPr/>
          </p:nvCxnSpPr>
          <p:spPr>
            <a:xfrm>
              <a:off x="36763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4" name=""/>
            <p:cNvSpPr/>
            <p:nvPr/>
          </p:nvSpPr>
          <p:spPr>
            <a:xfrm>
              <a:off x="214632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384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632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384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6" idx="6"/>
              <a:endCxn id="877" idx="2"/>
            </p:cNvCxnSpPr>
            <p:nvPr/>
          </p:nvCxnSpPr>
          <p:spPr>
            <a:xfrm>
              <a:off x="22550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9" name=""/>
            <p:cNvCxnSpPr>
              <a:stCxn id="876" idx="4"/>
              <a:endCxn id="874" idx="0"/>
            </p:cNvCxnSpPr>
            <p:nvPr/>
          </p:nvCxnSpPr>
          <p:spPr>
            <a:xfrm>
              <a:off x="21996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0" name=""/>
            <p:cNvCxnSpPr>
              <a:stCxn id="874" idx="6"/>
              <a:endCxn id="875" idx="2"/>
            </p:cNvCxnSpPr>
            <p:nvPr/>
          </p:nvCxnSpPr>
          <p:spPr>
            <a:xfrm>
              <a:off x="22550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77" idx="4"/>
              <a:endCxn id="875" idx="0"/>
            </p:cNvCxnSpPr>
            <p:nvPr/>
          </p:nvCxnSpPr>
          <p:spPr>
            <a:xfrm>
              <a:off x="26917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>
              <a:stCxn id="877" idx="6"/>
              <a:endCxn id="868" idx="2"/>
            </p:cNvCxnSpPr>
            <p:nvPr/>
          </p:nvCxnSpPr>
          <p:spPr>
            <a:xfrm>
              <a:off x="274752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>
              <a:stCxn id="875" idx="6"/>
              <a:endCxn id="866" idx="2"/>
            </p:cNvCxnSpPr>
            <p:nvPr/>
          </p:nvCxnSpPr>
          <p:spPr>
            <a:xfrm>
              <a:off x="274752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4" name=""/>
            <p:cNvSpPr/>
            <p:nvPr/>
          </p:nvSpPr>
          <p:spPr>
            <a:xfrm>
              <a:off x="50994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918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994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918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8" name=""/>
            <p:cNvCxnSpPr>
              <a:stCxn id="886" idx="6"/>
              <a:endCxn id="887" idx="2"/>
            </p:cNvCxnSpPr>
            <p:nvPr/>
          </p:nvCxnSpPr>
          <p:spPr>
            <a:xfrm>
              <a:off x="52092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>
              <a:stCxn id="886" idx="4"/>
              <a:endCxn id="884" idx="0"/>
            </p:cNvCxnSpPr>
            <p:nvPr/>
          </p:nvCxnSpPr>
          <p:spPr>
            <a:xfrm>
              <a:off x="51530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0" name=""/>
            <p:cNvCxnSpPr>
              <a:stCxn id="884" idx="6"/>
              <a:endCxn id="885" idx="2"/>
            </p:cNvCxnSpPr>
            <p:nvPr/>
          </p:nvCxnSpPr>
          <p:spPr>
            <a:xfrm>
              <a:off x="52092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"/>
            <p:cNvCxnSpPr>
              <a:stCxn id="887" idx="4"/>
              <a:endCxn id="885" idx="0"/>
            </p:cNvCxnSpPr>
            <p:nvPr/>
          </p:nvCxnSpPr>
          <p:spPr>
            <a:xfrm>
              <a:off x="56455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2" name=""/>
            <p:cNvSpPr/>
            <p:nvPr/>
          </p:nvSpPr>
          <p:spPr>
            <a:xfrm>
              <a:off x="41148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72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072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"/>
            <p:cNvCxnSpPr>
              <a:stCxn id="894" idx="6"/>
              <a:endCxn id="895" idx="2"/>
            </p:cNvCxnSpPr>
            <p:nvPr/>
          </p:nvCxnSpPr>
          <p:spPr>
            <a:xfrm>
              <a:off x="42246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"/>
            <p:cNvCxnSpPr>
              <a:stCxn id="894" idx="4"/>
              <a:endCxn id="892" idx="0"/>
            </p:cNvCxnSpPr>
            <p:nvPr/>
          </p:nvCxnSpPr>
          <p:spPr>
            <a:xfrm>
              <a:off x="4168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92" idx="6"/>
              <a:endCxn id="893" idx="2"/>
            </p:cNvCxnSpPr>
            <p:nvPr/>
          </p:nvCxnSpPr>
          <p:spPr>
            <a:xfrm>
              <a:off x="42246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95" idx="4"/>
              <a:endCxn id="893" idx="0"/>
            </p:cNvCxnSpPr>
            <p:nvPr/>
          </p:nvCxnSpPr>
          <p:spPr>
            <a:xfrm>
              <a:off x="46609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95" idx="6"/>
              <a:endCxn id="886" idx="2"/>
            </p:cNvCxnSpPr>
            <p:nvPr/>
          </p:nvCxnSpPr>
          <p:spPr>
            <a:xfrm>
              <a:off x="47167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93" idx="6"/>
              <a:endCxn id="884" idx="2"/>
            </p:cNvCxnSpPr>
            <p:nvPr/>
          </p:nvCxnSpPr>
          <p:spPr>
            <a:xfrm>
              <a:off x="47167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69" idx="6"/>
              <a:endCxn id="894" idx="2"/>
            </p:cNvCxnSpPr>
            <p:nvPr/>
          </p:nvCxnSpPr>
          <p:spPr>
            <a:xfrm>
              <a:off x="37321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67" idx="6"/>
              <a:endCxn id="892" idx="2"/>
            </p:cNvCxnSpPr>
            <p:nvPr/>
          </p:nvCxnSpPr>
          <p:spPr>
            <a:xfrm>
              <a:off x="37321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61380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304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380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04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8" name=""/>
            <p:cNvCxnSpPr>
              <a:stCxn id="906" idx="6"/>
              <a:endCxn id="907" idx="2"/>
            </p:cNvCxnSpPr>
            <p:nvPr/>
          </p:nvCxnSpPr>
          <p:spPr>
            <a:xfrm>
              <a:off x="62478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9" name=""/>
            <p:cNvCxnSpPr>
              <a:stCxn id="906" idx="4"/>
              <a:endCxn id="904" idx="0"/>
            </p:cNvCxnSpPr>
            <p:nvPr/>
          </p:nvCxnSpPr>
          <p:spPr>
            <a:xfrm>
              <a:off x="6193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0" name=""/>
            <p:cNvCxnSpPr>
              <a:stCxn id="904" idx="6"/>
              <a:endCxn id="905" idx="2"/>
            </p:cNvCxnSpPr>
            <p:nvPr/>
          </p:nvCxnSpPr>
          <p:spPr>
            <a:xfrm>
              <a:off x="62478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1" name=""/>
            <p:cNvCxnSpPr>
              <a:stCxn id="907" idx="4"/>
              <a:endCxn id="905" idx="0"/>
            </p:cNvCxnSpPr>
            <p:nvPr/>
          </p:nvCxnSpPr>
          <p:spPr>
            <a:xfrm>
              <a:off x="668556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2" name=""/>
            <p:cNvCxnSpPr>
              <a:stCxn id="887" idx="6"/>
              <a:endCxn id="906" idx="2"/>
            </p:cNvCxnSpPr>
            <p:nvPr/>
          </p:nvCxnSpPr>
          <p:spPr>
            <a:xfrm>
              <a:off x="5701320" y="28382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3" name=""/>
            <p:cNvCxnSpPr>
              <a:stCxn id="885" idx="6"/>
              <a:endCxn id="904" idx="2"/>
            </p:cNvCxnSpPr>
            <p:nvPr/>
          </p:nvCxnSpPr>
          <p:spPr>
            <a:xfrm>
              <a:off x="5701320" y="32670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4" name=""/>
            <p:cNvSpPr/>
            <p:nvPr/>
          </p:nvSpPr>
          <p:spPr>
            <a:xfrm>
              <a:off x="313056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30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056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230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8" name=""/>
            <p:cNvCxnSpPr>
              <a:stCxn id="916" idx="6"/>
              <a:endCxn id="917" idx="2"/>
            </p:cNvCxnSpPr>
            <p:nvPr/>
          </p:nvCxnSpPr>
          <p:spPr>
            <a:xfrm>
              <a:off x="32396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9" name=""/>
            <p:cNvCxnSpPr>
              <a:stCxn id="916" idx="4"/>
              <a:endCxn id="914" idx="0"/>
            </p:cNvCxnSpPr>
            <p:nvPr/>
          </p:nvCxnSpPr>
          <p:spPr>
            <a:xfrm>
              <a:off x="31842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0" name=""/>
            <p:cNvCxnSpPr>
              <a:stCxn id="914" idx="6"/>
              <a:endCxn id="915" idx="2"/>
            </p:cNvCxnSpPr>
            <p:nvPr/>
          </p:nvCxnSpPr>
          <p:spPr>
            <a:xfrm>
              <a:off x="32396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1" name=""/>
            <p:cNvCxnSpPr>
              <a:stCxn id="917" idx="4"/>
              <a:endCxn id="915" idx="0"/>
            </p:cNvCxnSpPr>
            <p:nvPr/>
          </p:nvCxnSpPr>
          <p:spPr>
            <a:xfrm>
              <a:off x="36763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2" name=""/>
            <p:cNvSpPr/>
            <p:nvPr/>
          </p:nvSpPr>
          <p:spPr>
            <a:xfrm>
              <a:off x="214632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84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632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384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" name=""/>
            <p:cNvCxnSpPr>
              <a:stCxn id="924" idx="6"/>
              <a:endCxn id="925" idx="2"/>
            </p:cNvCxnSpPr>
            <p:nvPr/>
          </p:nvCxnSpPr>
          <p:spPr>
            <a:xfrm>
              <a:off x="22550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7" name=""/>
            <p:cNvCxnSpPr>
              <a:stCxn id="924" idx="4"/>
              <a:endCxn id="922" idx="0"/>
            </p:cNvCxnSpPr>
            <p:nvPr/>
          </p:nvCxnSpPr>
          <p:spPr>
            <a:xfrm>
              <a:off x="21996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8" name=""/>
            <p:cNvCxnSpPr>
              <a:stCxn id="922" idx="6"/>
              <a:endCxn id="923" idx="2"/>
            </p:cNvCxnSpPr>
            <p:nvPr/>
          </p:nvCxnSpPr>
          <p:spPr>
            <a:xfrm>
              <a:off x="22550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9" name=""/>
            <p:cNvCxnSpPr>
              <a:stCxn id="925" idx="4"/>
              <a:endCxn id="923" idx="0"/>
            </p:cNvCxnSpPr>
            <p:nvPr/>
          </p:nvCxnSpPr>
          <p:spPr>
            <a:xfrm>
              <a:off x="26917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0" name=""/>
            <p:cNvCxnSpPr>
              <a:stCxn id="925" idx="6"/>
              <a:endCxn id="916" idx="2"/>
            </p:cNvCxnSpPr>
            <p:nvPr/>
          </p:nvCxnSpPr>
          <p:spPr>
            <a:xfrm>
              <a:off x="274752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"/>
            <p:cNvCxnSpPr>
              <a:stCxn id="923" idx="6"/>
              <a:endCxn id="914" idx="2"/>
            </p:cNvCxnSpPr>
            <p:nvPr/>
          </p:nvCxnSpPr>
          <p:spPr>
            <a:xfrm>
              <a:off x="274752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2" name=""/>
            <p:cNvSpPr/>
            <p:nvPr/>
          </p:nvSpPr>
          <p:spPr>
            <a:xfrm>
              <a:off x="50994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918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994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5918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934" idx="6"/>
              <a:endCxn id="935" idx="2"/>
            </p:cNvCxnSpPr>
            <p:nvPr/>
          </p:nvCxnSpPr>
          <p:spPr>
            <a:xfrm>
              <a:off x="52092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>
              <a:stCxn id="934" idx="4"/>
              <a:endCxn id="932" idx="0"/>
            </p:cNvCxnSpPr>
            <p:nvPr/>
          </p:nvCxnSpPr>
          <p:spPr>
            <a:xfrm>
              <a:off x="51530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>
              <a:stCxn id="932" idx="6"/>
              <a:endCxn id="933" idx="2"/>
            </p:cNvCxnSpPr>
            <p:nvPr/>
          </p:nvCxnSpPr>
          <p:spPr>
            <a:xfrm>
              <a:off x="52092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>
              <a:stCxn id="935" idx="4"/>
              <a:endCxn id="933" idx="0"/>
            </p:cNvCxnSpPr>
            <p:nvPr/>
          </p:nvCxnSpPr>
          <p:spPr>
            <a:xfrm>
              <a:off x="56455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0" name=""/>
            <p:cNvSpPr/>
            <p:nvPr/>
          </p:nvSpPr>
          <p:spPr>
            <a:xfrm>
              <a:off x="41148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72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148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72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4" name=""/>
            <p:cNvCxnSpPr>
              <a:stCxn id="942" idx="6"/>
              <a:endCxn id="943" idx="2"/>
            </p:cNvCxnSpPr>
            <p:nvPr/>
          </p:nvCxnSpPr>
          <p:spPr>
            <a:xfrm>
              <a:off x="42246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5" name=""/>
            <p:cNvCxnSpPr>
              <a:stCxn id="942" idx="4"/>
              <a:endCxn id="940" idx="0"/>
            </p:cNvCxnSpPr>
            <p:nvPr/>
          </p:nvCxnSpPr>
          <p:spPr>
            <a:xfrm>
              <a:off x="4168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6" name=""/>
            <p:cNvCxnSpPr>
              <a:stCxn id="940" idx="6"/>
              <a:endCxn id="941" idx="2"/>
            </p:cNvCxnSpPr>
            <p:nvPr/>
          </p:nvCxnSpPr>
          <p:spPr>
            <a:xfrm>
              <a:off x="42246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>
              <a:stCxn id="943" idx="4"/>
              <a:endCxn id="941" idx="0"/>
            </p:cNvCxnSpPr>
            <p:nvPr/>
          </p:nvCxnSpPr>
          <p:spPr>
            <a:xfrm>
              <a:off x="46609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>
              <a:stCxn id="943" idx="6"/>
              <a:endCxn id="934" idx="2"/>
            </p:cNvCxnSpPr>
            <p:nvPr/>
          </p:nvCxnSpPr>
          <p:spPr>
            <a:xfrm>
              <a:off x="47167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>
              <a:stCxn id="941" idx="6"/>
              <a:endCxn id="932" idx="2"/>
            </p:cNvCxnSpPr>
            <p:nvPr/>
          </p:nvCxnSpPr>
          <p:spPr>
            <a:xfrm>
              <a:off x="47167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>
              <a:stCxn id="917" idx="6"/>
              <a:endCxn id="942" idx="2"/>
            </p:cNvCxnSpPr>
            <p:nvPr/>
          </p:nvCxnSpPr>
          <p:spPr>
            <a:xfrm>
              <a:off x="37321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>
              <a:stCxn id="915" idx="6"/>
              <a:endCxn id="940" idx="2"/>
            </p:cNvCxnSpPr>
            <p:nvPr/>
          </p:nvCxnSpPr>
          <p:spPr>
            <a:xfrm>
              <a:off x="37321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"/>
            <p:cNvSpPr/>
            <p:nvPr/>
          </p:nvSpPr>
          <p:spPr>
            <a:xfrm>
              <a:off x="61380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04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380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304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6" name=""/>
            <p:cNvCxnSpPr>
              <a:stCxn id="954" idx="6"/>
              <a:endCxn id="955" idx="2"/>
            </p:cNvCxnSpPr>
            <p:nvPr/>
          </p:nvCxnSpPr>
          <p:spPr>
            <a:xfrm>
              <a:off x="62478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54" idx="4"/>
              <a:endCxn id="952" idx="0"/>
            </p:cNvCxnSpPr>
            <p:nvPr/>
          </p:nvCxnSpPr>
          <p:spPr>
            <a:xfrm>
              <a:off x="6193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>
              <a:stCxn id="952" idx="6"/>
              <a:endCxn id="953" idx="2"/>
            </p:cNvCxnSpPr>
            <p:nvPr/>
          </p:nvCxnSpPr>
          <p:spPr>
            <a:xfrm>
              <a:off x="62478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9" name=""/>
            <p:cNvCxnSpPr>
              <a:stCxn id="955" idx="4"/>
              <a:endCxn id="953" idx="0"/>
            </p:cNvCxnSpPr>
            <p:nvPr/>
          </p:nvCxnSpPr>
          <p:spPr>
            <a:xfrm>
              <a:off x="668556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0" name=""/>
            <p:cNvCxnSpPr>
              <a:stCxn id="935" idx="6"/>
              <a:endCxn id="954" idx="2"/>
            </p:cNvCxnSpPr>
            <p:nvPr/>
          </p:nvCxnSpPr>
          <p:spPr>
            <a:xfrm>
              <a:off x="5701320" y="19818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33" idx="6"/>
              <a:endCxn id="952" idx="2"/>
            </p:cNvCxnSpPr>
            <p:nvPr/>
          </p:nvCxnSpPr>
          <p:spPr>
            <a:xfrm>
              <a:off x="5701320" y="2410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22" idx="4"/>
              <a:endCxn id="876" idx="0"/>
            </p:cNvCxnSpPr>
            <p:nvPr/>
          </p:nvCxnSpPr>
          <p:spPr>
            <a:xfrm>
              <a:off x="21996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23" idx="4"/>
              <a:endCxn id="877" idx="0"/>
            </p:cNvCxnSpPr>
            <p:nvPr/>
          </p:nvCxnSpPr>
          <p:spPr>
            <a:xfrm>
              <a:off x="26917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"/>
            <p:cNvCxnSpPr>
              <a:stCxn id="914" idx="4"/>
              <a:endCxn id="868" idx="0"/>
            </p:cNvCxnSpPr>
            <p:nvPr/>
          </p:nvCxnSpPr>
          <p:spPr>
            <a:xfrm>
              <a:off x="31842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"/>
            <p:cNvCxnSpPr>
              <a:stCxn id="915" idx="4"/>
              <a:endCxn id="869" idx="0"/>
            </p:cNvCxnSpPr>
            <p:nvPr/>
          </p:nvCxnSpPr>
          <p:spPr>
            <a:xfrm>
              <a:off x="36763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6" name=""/>
            <p:cNvCxnSpPr>
              <a:stCxn id="940" idx="4"/>
              <a:endCxn id="894" idx="0"/>
            </p:cNvCxnSpPr>
            <p:nvPr/>
          </p:nvCxnSpPr>
          <p:spPr>
            <a:xfrm>
              <a:off x="4168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7" name=""/>
            <p:cNvCxnSpPr>
              <a:stCxn id="941" idx="4"/>
              <a:endCxn id="895" idx="0"/>
            </p:cNvCxnSpPr>
            <p:nvPr/>
          </p:nvCxnSpPr>
          <p:spPr>
            <a:xfrm>
              <a:off x="46609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8" name=""/>
            <p:cNvCxnSpPr>
              <a:stCxn id="932" idx="4"/>
              <a:endCxn id="886" idx="0"/>
            </p:cNvCxnSpPr>
            <p:nvPr/>
          </p:nvCxnSpPr>
          <p:spPr>
            <a:xfrm>
              <a:off x="51530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9" name=""/>
            <p:cNvCxnSpPr>
              <a:stCxn id="933" idx="4"/>
              <a:endCxn id="887" idx="0"/>
            </p:cNvCxnSpPr>
            <p:nvPr/>
          </p:nvCxnSpPr>
          <p:spPr>
            <a:xfrm>
              <a:off x="56455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0" name=""/>
            <p:cNvCxnSpPr>
              <a:stCxn id="952" idx="4"/>
              <a:endCxn id="906" idx="0"/>
            </p:cNvCxnSpPr>
            <p:nvPr/>
          </p:nvCxnSpPr>
          <p:spPr>
            <a:xfrm>
              <a:off x="6193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1" name=""/>
            <p:cNvCxnSpPr>
              <a:stCxn id="953" idx="4"/>
              <a:endCxn id="907" idx="0"/>
            </p:cNvCxnSpPr>
            <p:nvPr/>
          </p:nvCxnSpPr>
          <p:spPr>
            <a:xfrm>
              <a:off x="668556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"/>
            <p:cNvCxnSpPr>
              <a:stCxn id="874" idx="4"/>
              <a:endCxn id="818" idx="0"/>
            </p:cNvCxnSpPr>
            <p:nvPr/>
          </p:nvCxnSpPr>
          <p:spPr>
            <a:xfrm>
              <a:off x="21996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"/>
            <p:cNvCxnSpPr>
              <a:stCxn id="875" idx="4"/>
              <a:endCxn id="819" idx="0"/>
            </p:cNvCxnSpPr>
            <p:nvPr/>
          </p:nvCxnSpPr>
          <p:spPr>
            <a:xfrm>
              <a:off x="26917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4" name=""/>
            <p:cNvCxnSpPr>
              <a:stCxn id="866" idx="4"/>
              <a:endCxn id="810" idx="0"/>
            </p:cNvCxnSpPr>
            <p:nvPr/>
          </p:nvCxnSpPr>
          <p:spPr>
            <a:xfrm>
              <a:off x="31842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5" name=""/>
            <p:cNvCxnSpPr>
              <a:stCxn id="867" idx="4"/>
              <a:endCxn id="811" idx="0"/>
            </p:cNvCxnSpPr>
            <p:nvPr/>
          </p:nvCxnSpPr>
          <p:spPr>
            <a:xfrm>
              <a:off x="36763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6" name=""/>
            <p:cNvCxnSpPr>
              <a:stCxn id="892" idx="4"/>
              <a:endCxn id="836" idx="0"/>
            </p:cNvCxnSpPr>
            <p:nvPr/>
          </p:nvCxnSpPr>
          <p:spPr>
            <a:xfrm>
              <a:off x="4168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7" name=""/>
            <p:cNvCxnSpPr>
              <a:stCxn id="893" idx="4"/>
              <a:endCxn id="837" idx="0"/>
            </p:cNvCxnSpPr>
            <p:nvPr/>
          </p:nvCxnSpPr>
          <p:spPr>
            <a:xfrm>
              <a:off x="46609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8" name=""/>
            <p:cNvCxnSpPr>
              <a:stCxn id="884" idx="4"/>
              <a:endCxn id="828" idx="0"/>
            </p:cNvCxnSpPr>
            <p:nvPr/>
          </p:nvCxnSpPr>
          <p:spPr>
            <a:xfrm>
              <a:off x="51530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9" name=""/>
            <p:cNvCxnSpPr>
              <a:stCxn id="885" idx="4"/>
              <a:endCxn id="829" idx="0"/>
            </p:cNvCxnSpPr>
            <p:nvPr/>
          </p:nvCxnSpPr>
          <p:spPr>
            <a:xfrm>
              <a:off x="56455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0" name=""/>
            <p:cNvCxnSpPr>
              <a:stCxn id="904" idx="4"/>
              <a:endCxn id="848" idx="0"/>
            </p:cNvCxnSpPr>
            <p:nvPr/>
          </p:nvCxnSpPr>
          <p:spPr>
            <a:xfrm>
              <a:off x="6193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1" name=""/>
            <p:cNvCxnSpPr>
              <a:stCxn id="905" idx="4"/>
              <a:endCxn id="849" idx="0"/>
            </p:cNvCxnSpPr>
            <p:nvPr/>
          </p:nvCxnSpPr>
          <p:spPr>
            <a:xfrm>
              <a:off x="668556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2" name=""/>
            <p:cNvSpPr/>
            <p:nvPr/>
          </p:nvSpPr>
          <p:spPr>
            <a:xfrm>
              <a:off x="31338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262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4" name=""/>
            <p:cNvCxnSpPr>
              <a:stCxn id="982" idx="6"/>
              <a:endCxn id="983" idx="2"/>
            </p:cNvCxnSpPr>
            <p:nvPr/>
          </p:nvCxnSpPr>
          <p:spPr>
            <a:xfrm>
              <a:off x="32436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5" name=""/>
            <p:cNvSpPr/>
            <p:nvPr/>
          </p:nvSpPr>
          <p:spPr>
            <a:xfrm>
              <a:off x="21492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416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5" idx="6"/>
              <a:endCxn id="986" idx="2"/>
            </p:cNvCxnSpPr>
            <p:nvPr/>
          </p:nvCxnSpPr>
          <p:spPr>
            <a:xfrm>
              <a:off x="22590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8" name=""/>
            <p:cNvCxnSpPr>
              <a:stCxn id="986" idx="6"/>
              <a:endCxn id="982" idx="2"/>
            </p:cNvCxnSpPr>
            <p:nvPr/>
          </p:nvCxnSpPr>
          <p:spPr>
            <a:xfrm>
              <a:off x="27511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9" name=""/>
            <p:cNvSpPr/>
            <p:nvPr/>
          </p:nvSpPr>
          <p:spPr>
            <a:xfrm>
              <a:off x="51030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954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"/>
            <p:cNvCxnSpPr>
              <a:stCxn id="989" idx="6"/>
              <a:endCxn id="990" idx="2"/>
            </p:cNvCxnSpPr>
            <p:nvPr/>
          </p:nvCxnSpPr>
          <p:spPr>
            <a:xfrm>
              <a:off x="52128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41184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108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4" name=""/>
            <p:cNvCxnSpPr>
              <a:stCxn id="992" idx="6"/>
              <a:endCxn id="993" idx="2"/>
            </p:cNvCxnSpPr>
            <p:nvPr/>
          </p:nvCxnSpPr>
          <p:spPr>
            <a:xfrm>
              <a:off x="42282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93" idx="6"/>
              <a:endCxn id="989" idx="2"/>
            </p:cNvCxnSpPr>
            <p:nvPr/>
          </p:nvCxnSpPr>
          <p:spPr>
            <a:xfrm>
              <a:off x="47203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83" idx="6"/>
              <a:endCxn id="992" idx="2"/>
            </p:cNvCxnSpPr>
            <p:nvPr/>
          </p:nvCxnSpPr>
          <p:spPr>
            <a:xfrm>
              <a:off x="37357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7" name=""/>
            <p:cNvSpPr/>
            <p:nvPr/>
          </p:nvSpPr>
          <p:spPr>
            <a:xfrm>
              <a:off x="61416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340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7" idx="6"/>
              <a:endCxn id="998" idx="2"/>
            </p:cNvCxnSpPr>
            <p:nvPr/>
          </p:nvCxnSpPr>
          <p:spPr>
            <a:xfrm>
              <a:off x="62514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90" idx="6"/>
              <a:endCxn id="997" idx="2"/>
            </p:cNvCxnSpPr>
            <p:nvPr/>
          </p:nvCxnSpPr>
          <p:spPr>
            <a:xfrm>
              <a:off x="5704920" y="58370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1" name=""/>
            <p:cNvSpPr/>
            <p:nvPr/>
          </p:nvSpPr>
          <p:spPr>
            <a:xfrm>
              <a:off x="31338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62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338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262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5" name=""/>
            <p:cNvCxnSpPr>
              <a:stCxn id="1003" idx="6"/>
              <a:endCxn id="1004" idx="2"/>
            </p:cNvCxnSpPr>
            <p:nvPr/>
          </p:nvCxnSpPr>
          <p:spPr>
            <a:xfrm>
              <a:off x="32436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6" name=""/>
            <p:cNvCxnSpPr>
              <a:stCxn id="1003" idx="4"/>
              <a:endCxn id="1001" idx="0"/>
            </p:cNvCxnSpPr>
            <p:nvPr/>
          </p:nvCxnSpPr>
          <p:spPr>
            <a:xfrm>
              <a:off x="31874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7" name=""/>
            <p:cNvCxnSpPr>
              <a:stCxn id="1001" idx="6"/>
              <a:endCxn id="1002" idx="2"/>
            </p:cNvCxnSpPr>
            <p:nvPr/>
          </p:nvCxnSpPr>
          <p:spPr>
            <a:xfrm>
              <a:off x="32436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8" name=""/>
            <p:cNvCxnSpPr>
              <a:stCxn id="1004" idx="4"/>
              <a:endCxn id="1002" idx="0"/>
            </p:cNvCxnSpPr>
            <p:nvPr/>
          </p:nvCxnSpPr>
          <p:spPr>
            <a:xfrm>
              <a:off x="36799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9" name=""/>
            <p:cNvSpPr/>
            <p:nvPr/>
          </p:nvSpPr>
          <p:spPr>
            <a:xfrm>
              <a:off x="21492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416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92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416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3" name=""/>
            <p:cNvCxnSpPr>
              <a:stCxn id="1011" idx="6"/>
              <a:endCxn id="1012" idx="2"/>
            </p:cNvCxnSpPr>
            <p:nvPr/>
          </p:nvCxnSpPr>
          <p:spPr>
            <a:xfrm>
              <a:off x="22590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"/>
            <p:cNvCxnSpPr>
              <a:stCxn id="1011" idx="4"/>
              <a:endCxn id="1009" idx="0"/>
            </p:cNvCxnSpPr>
            <p:nvPr/>
          </p:nvCxnSpPr>
          <p:spPr>
            <a:xfrm>
              <a:off x="22028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2"/>
            </p:cNvCxnSpPr>
            <p:nvPr/>
          </p:nvCxnSpPr>
          <p:spPr>
            <a:xfrm>
              <a:off x="22590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"/>
            <p:cNvCxnSpPr>
              <a:stCxn id="1012" idx="4"/>
              <a:endCxn id="1010" idx="0"/>
            </p:cNvCxnSpPr>
            <p:nvPr/>
          </p:nvCxnSpPr>
          <p:spPr>
            <a:xfrm>
              <a:off x="26953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7" name=""/>
            <p:cNvCxnSpPr>
              <a:stCxn id="1012" idx="6"/>
              <a:endCxn id="1003" idx="2"/>
            </p:cNvCxnSpPr>
            <p:nvPr/>
          </p:nvCxnSpPr>
          <p:spPr>
            <a:xfrm>
              <a:off x="27511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0" idx="6"/>
              <a:endCxn id="1001" idx="2"/>
            </p:cNvCxnSpPr>
            <p:nvPr/>
          </p:nvCxnSpPr>
          <p:spPr>
            <a:xfrm>
              <a:off x="27511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9" name=""/>
            <p:cNvSpPr/>
            <p:nvPr/>
          </p:nvSpPr>
          <p:spPr>
            <a:xfrm>
              <a:off x="51030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954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30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954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3" name=""/>
            <p:cNvCxnSpPr>
              <a:stCxn id="1021" idx="6"/>
              <a:endCxn id="1022" idx="2"/>
            </p:cNvCxnSpPr>
            <p:nvPr/>
          </p:nvCxnSpPr>
          <p:spPr>
            <a:xfrm>
              <a:off x="52128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4" name=""/>
            <p:cNvCxnSpPr>
              <a:stCxn id="1021" idx="4"/>
              <a:endCxn id="1019" idx="0"/>
            </p:cNvCxnSpPr>
            <p:nvPr/>
          </p:nvCxnSpPr>
          <p:spPr>
            <a:xfrm>
              <a:off x="51566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5" name=""/>
            <p:cNvCxnSpPr>
              <a:stCxn id="1019" idx="6"/>
              <a:endCxn id="1020" idx="2"/>
            </p:cNvCxnSpPr>
            <p:nvPr/>
          </p:nvCxnSpPr>
          <p:spPr>
            <a:xfrm>
              <a:off x="52128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6" name=""/>
            <p:cNvCxnSpPr>
              <a:stCxn id="1022" idx="4"/>
              <a:endCxn id="1020" idx="0"/>
            </p:cNvCxnSpPr>
            <p:nvPr/>
          </p:nvCxnSpPr>
          <p:spPr>
            <a:xfrm>
              <a:off x="56491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7" name=""/>
            <p:cNvSpPr/>
            <p:nvPr/>
          </p:nvSpPr>
          <p:spPr>
            <a:xfrm>
              <a:off x="41184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08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84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08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"/>
            <p:cNvCxnSpPr>
              <a:stCxn id="1029" idx="6"/>
              <a:endCxn id="1030" idx="2"/>
            </p:cNvCxnSpPr>
            <p:nvPr/>
          </p:nvCxnSpPr>
          <p:spPr>
            <a:xfrm>
              <a:off x="42282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2" name=""/>
            <p:cNvCxnSpPr>
              <a:stCxn id="1029" idx="4"/>
              <a:endCxn id="1027" idx="0"/>
            </p:cNvCxnSpPr>
            <p:nvPr/>
          </p:nvCxnSpPr>
          <p:spPr>
            <a:xfrm>
              <a:off x="4172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3" name=""/>
            <p:cNvCxnSpPr>
              <a:stCxn id="1027" idx="6"/>
              <a:endCxn id="1028" idx="2"/>
            </p:cNvCxnSpPr>
            <p:nvPr/>
          </p:nvCxnSpPr>
          <p:spPr>
            <a:xfrm>
              <a:off x="42282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4" name=""/>
            <p:cNvCxnSpPr>
              <a:stCxn id="1030" idx="4"/>
              <a:endCxn id="1028" idx="0"/>
            </p:cNvCxnSpPr>
            <p:nvPr/>
          </p:nvCxnSpPr>
          <p:spPr>
            <a:xfrm>
              <a:off x="46645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5" name=""/>
            <p:cNvCxnSpPr>
              <a:stCxn id="1030" idx="6"/>
              <a:endCxn id="1021" idx="2"/>
            </p:cNvCxnSpPr>
            <p:nvPr/>
          </p:nvCxnSpPr>
          <p:spPr>
            <a:xfrm>
              <a:off x="47203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"/>
            <p:cNvCxnSpPr>
              <a:stCxn id="1028" idx="6"/>
              <a:endCxn id="1019" idx="2"/>
            </p:cNvCxnSpPr>
            <p:nvPr/>
          </p:nvCxnSpPr>
          <p:spPr>
            <a:xfrm>
              <a:off x="47203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7" name=""/>
            <p:cNvCxnSpPr>
              <a:stCxn id="1004" idx="6"/>
              <a:endCxn id="1029" idx="2"/>
            </p:cNvCxnSpPr>
            <p:nvPr/>
          </p:nvCxnSpPr>
          <p:spPr>
            <a:xfrm>
              <a:off x="37357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"/>
            <p:cNvCxnSpPr>
              <a:stCxn id="1002" idx="6"/>
              <a:endCxn id="1027" idx="2"/>
            </p:cNvCxnSpPr>
            <p:nvPr/>
          </p:nvCxnSpPr>
          <p:spPr>
            <a:xfrm>
              <a:off x="37357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9" name=""/>
            <p:cNvSpPr/>
            <p:nvPr/>
          </p:nvSpPr>
          <p:spPr>
            <a:xfrm>
              <a:off x="61416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340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416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340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"/>
            <p:cNvCxnSpPr>
              <a:stCxn id="1041" idx="6"/>
              <a:endCxn id="1042" idx="2"/>
            </p:cNvCxnSpPr>
            <p:nvPr/>
          </p:nvCxnSpPr>
          <p:spPr>
            <a:xfrm>
              <a:off x="62514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4" name=""/>
            <p:cNvCxnSpPr>
              <a:stCxn id="1041" idx="4"/>
              <a:endCxn id="1039" idx="0"/>
            </p:cNvCxnSpPr>
            <p:nvPr/>
          </p:nvCxnSpPr>
          <p:spPr>
            <a:xfrm>
              <a:off x="6197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5" name=""/>
            <p:cNvCxnSpPr>
              <a:stCxn id="1039" idx="6"/>
              <a:endCxn id="1040" idx="2"/>
            </p:cNvCxnSpPr>
            <p:nvPr/>
          </p:nvCxnSpPr>
          <p:spPr>
            <a:xfrm>
              <a:off x="62514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6" name=""/>
            <p:cNvCxnSpPr>
              <a:stCxn id="1042" idx="4"/>
              <a:endCxn id="1040" idx="0"/>
            </p:cNvCxnSpPr>
            <p:nvPr/>
          </p:nvCxnSpPr>
          <p:spPr>
            <a:xfrm>
              <a:off x="668916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7" name=""/>
            <p:cNvCxnSpPr>
              <a:stCxn id="1022" idx="6"/>
              <a:endCxn id="1041" idx="2"/>
            </p:cNvCxnSpPr>
            <p:nvPr/>
          </p:nvCxnSpPr>
          <p:spPr>
            <a:xfrm>
              <a:off x="5704920" y="49806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8" name=""/>
            <p:cNvCxnSpPr>
              <a:stCxn id="1020" idx="6"/>
              <a:endCxn id="1039" idx="2"/>
            </p:cNvCxnSpPr>
            <p:nvPr/>
          </p:nvCxnSpPr>
          <p:spPr>
            <a:xfrm>
              <a:off x="5704920" y="5407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9" name=""/>
            <p:cNvCxnSpPr>
              <a:stCxn id="1009" idx="4"/>
              <a:endCxn id="985" idx="0"/>
            </p:cNvCxnSpPr>
            <p:nvPr/>
          </p:nvCxnSpPr>
          <p:spPr>
            <a:xfrm>
              <a:off x="22028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0" name=""/>
            <p:cNvCxnSpPr>
              <a:stCxn id="1010" idx="4"/>
              <a:endCxn id="986" idx="0"/>
            </p:cNvCxnSpPr>
            <p:nvPr/>
          </p:nvCxnSpPr>
          <p:spPr>
            <a:xfrm>
              <a:off x="26953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1" name=""/>
            <p:cNvCxnSpPr>
              <a:stCxn id="1001" idx="4"/>
              <a:endCxn id="982" idx="0"/>
            </p:cNvCxnSpPr>
            <p:nvPr/>
          </p:nvCxnSpPr>
          <p:spPr>
            <a:xfrm>
              <a:off x="31874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2" name=""/>
            <p:cNvCxnSpPr>
              <a:stCxn id="1002" idx="4"/>
              <a:endCxn id="983" idx="0"/>
            </p:cNvCxnSpPr>
            <p:nvPr/>
          </p:nvCxnSpPr>
          <p:spPr>
            <a:xfrm>
              <a:off x="36799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3" name=""/>
            <p:cNvCxnSpPr>
              <a:stCxn id="1027" idx="4"/>
              <a:endCxn id="992" idx="0"/>
            </p:cNvCxnSpPr>
            <p:nvPr/>
          </p:nvCxnSpPr>
          <p:spPr>
            <a:xfrm>
              <a:off x="4172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4" name=""/>
            <p:cNvCxnSpPr>
              <a:stCxn id="1028" idx="4"/>
              <a:endCxn id="993" idx="0"/>
            </p:cNvCxnSpPr>
            <p:nvPr/>
          </p:nvCxnSpPr>
          <p:spPr>
            <a:xfrm>
              <a:off x="46645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5" name=""/>
            <p:cNvCxnSpPr>
              <a:stCxn id="1019" idx="4"/>
              <a:endCxn id="989" idx="0"/>
            </p:cNvCxnSpPr>
            <p:nvPr/>
          </p:nvCxnSpPr>
          <p:spPr>
            <a:xfrm>
              <a:off x="51566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6" name=""/>
            <p:cNvCxnSpPr>
              <a:stCxn id="1020" idx="4"/>
              <a:endCxn id="990" idx="0"/>
            </p:cNvCxnSpPr>
            <p:nvPr/>
          </p:nvCxnSpPr>
          <p:spPr>
            <a:xfrm>
              <a:off x="56491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7" name=""/>
            <p:cNvCxnSpPr>
              <a:stCxn id="1039" idx="4"/>
              <a:endCxn id="997" idx="0"/>
            </p:cNvCxnSpPr>
            <p:nvPr/>
          </p:nvCxnSpPr>
          <p:spPr>
            <a:xfrm>
              <a:off x="6197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8" name=""/>
            <p:cNvCxnSpPr>
              <a:stCxn id="1040" idx="4"/>
              <a:endCxn id="998" idx="0"/>
            </p:cNvCxnSpPr>
            <p:nvPr/>
          </p:nvCxnSpPr>
          <p:spPr>
            <a:xfrm>
              <a:off x="668916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9" name=""/>
            <p:cNvSpPr/>
            <p:nvPr/>
          </p:nvSpPr>
          <p:spPr>
            <a:xfrm flipV="1">
              <a:off x="4224600" y="3837960"/>
              <a:ext cx="0" cy="1432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224600" y="341064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24600" y="426672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24600" y="4694040"/>
              <a:ext cx="0" cy="14364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89760" y="3725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152-D33B-4934-A42C-3D78C0AC6F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9:25:47Z</dcterms:created>
  <dc:creator>Xin Liu</dc:creator>
  <dc:description/>
  <dc:language>en-US</dc:language>
  <cp:lastModifiedBy>liang</cp:lastModifiedBy>
  <dcterms:modified xsi:type="dcterms:W3CDTF">2005-03-04T19:57:44Z</dcterms:modified>
  <cp:revision>298</cp:revision>
  <dc:subject/>
  <dc:title>Comb, Needle, Haystacks</dc:title>
</cp:coreProperties>
</file>